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FDA-17AF-4E49-868E-6DA6958E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8D9-9940-411F-9A10-FEF71EF7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2FD-C852-43B7-BB6A-30F399FE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7F9-7791-4505-804B-2823A6EB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1E67-10E1-4D76-8BE6-2248D11628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E95D6-6195-4733-A73C-B42F8D6BBA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A5DA-D038-4B22-AB87-3DA3BC029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0FE54-C656-4660-92FE-5A819AADB6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A8360-AF01-4D4E-BD24-EA798B95A5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F702F-FE53-4054-9F9D-B7901CE6AD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B7D1C-A413-4F54-9C2A-E1666D229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5C6-8A68-479B-8091-FE7383BA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5255-0C40-49E8-8625-B4F23B644E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33B76-0A13-420F-B73D-DB57A7EE6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AC5B-20BF-406D-8C30-FA213D136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6C7E6-C55D-48B9-A388-83CBB8A5B5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0D76B-24B5-43EE-9690-BAB6144871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0D9-225B-4D69-AF27-B3AE8890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763-801E-4458-B3E0-8555610A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4E2-9BB1-48C5-BEDB-52F3D514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99C-55FA-4114-89E6-45729D2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4E7-6EDA-48F4-B406-CEF4111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48A-880F-4BF1-854E-BF657DC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2D7-3806-4D94-9866-F398468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70F-4012-4973-8AC5-69FEB29F14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33DF-C58C-47E7-8916-AFA9ACEDC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C05F-16A0-4E0A-A3EB-30BC03B77D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7"/>
          <p:cNvSpPr/>
          <p:nvPr/>
        </p:nvSpPr>
        <p:spPr>
          <a:xfrm>
            <a:off x="2451240" y="3265560"/>
            <a:ext cx="580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Cost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203720" y="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79"/>
          <p:cNvGrpSpPr/>
          <p:nvPr/>
        </p:nvGrpSpPr>
        <p:grpSpPr>
          <a:xfrm>
            <a:off x="4230720" y="1521000"/>
            <a:ext cx="1625400" cy="4605120"/>
            <a:chOff x="4230720" y="1521000"/>
            <a:chExt cx="1625400" cy="4605120"/>
          </a:xfrm>
        </p:grpSpPr>
        <p:sp>
          <p:nvSpPr>
            <p:cNvPr id="226" name="Rectangle 159"/>
            <p:cNvSpPr/>
            <p:nvPr/>
          </p:nvSpPr>
          <p:spPr>
            <a:xfrm>
              <a:off x="4233960" y="1521000"/>
              <a:ext cx="1622160" cy="24066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60"/>
            <p:cNvSpPr/>
            <p:nvPr/>
          </p:nvSpPr>
          <p:spPr>
            <a:xfrm>
              <a:off x="4230720" y="4362480"/>
              <a:ext cx="1622520" cy="1763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80"/>
          <p:cNvGrpSpPr/>
          <p:nvPr/>
        </p:nvGrpSpPr>
        <p:grpSpPr>
          <a:xfrm>
            <a:off x="5850000" y="1517760"/>
            <a:ext cx="1452600" cy="4605120"/>
            <a:chOff x="5850000" y="1517760"/>
            <a:chExt cx="1452600" cy="4605120"/>
          </a:xfrm>
        </p:grpSpPr>
        <p:sp>
          <p:nvSpPr>
            <p:cNvPr id="229" name="Rectangle 161"/>
            <p:cNvSpPr/>
            <p:nvPr/>
          </p:nvSpPr>
          <p:spPr>
            <a:xfrm>
              <a:off x="5853240" y="1517760"/>
              <a:ext cx="1449360" cy="2406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62"/>
            <p:cNvSpPr/>
            <p:nvPr/>
          </p:nvSpPr>
          <p:spPr>
            <a:xfrm>
              <a:off x="5850000" y="4359240"/>
              <a:ext cx="1449360" cy="17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78"/>
          <p:cNvGrpSpPr/>
          <p:nvPr/>
        </p:nvGrpSpPr>
        <p:grpSpPr>
          <a:xfrm>
            <a:off x="3214800" y="1523880"/>
            <a:ext cx="1020600" cy="4594320"/>
            <a:chOff x="3214800" y="1523880"/>
            <a:chExt cx="1020600" cy="4594320"/>
          </a:xfrm>
        </p:grpSpPr>
        <p:sp>
          <p:nvSpPr>
            <p:cNvPr id="232" name="Rectangle 157"/>
            <p:cNvSpPr/>
            <p:nvPr/>
          </p:nvSpPr>
          <p:spPr>
            <a:xfrm>
              <a:off x="3214800" y="1523880"/>
              <a:ext cx="1012680" cy="2397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58"/>
            <p:cNvSpPr/>
            <p:nvPr/>
          </p:nvSpPr>
          <p:spPr>
            <a:xfrm>
              <a:off x="3222720" y="4354560"/>
              <a:ext cx="1012680" cy="1763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67"/>
          <p:cNvGrpSpPr/>
          <p:nvPr/>
        </p:nvGrpSpPr>
        <p:grpSpPr>
          <a:xfrm>
            <a:off x="2505240" y="1523880"/>
            <a:ext cx="4791960" cy="2726640"/>
            <a:chOff x="2505240" y="1523880"/>
            <a:chExt cx="4791960" cy="2726640"/>
          </a:xfrm>
        </p:grpSpPr>
        <p:grpSp>
          <p:nvGrpSpPr>
            <p:cNvPr id="235" name="Group 156"/>
            <p:cNvGrpSpPr/>
            <p:nvPr/>
          </p:nvGrpSpPr>
          <p:grpSpPr>
            <a:xfrm>
              <a:off x="2505240" y="1523880"/>
              <a:ext cx="4790160" cy="2726640"/>
              <a:chOff x="2505240" y="1523880"/>
              <a:chExt cx="4790160" cy="2726640"/>
            </a:xfrm>
          </p:grpSpPr>
          <p:grpSp>
            <p:nvGrpSpPr>
              <p:cNvPr id="236" name="Group 98"/>
              <p:cNvGrpSpPr/>
              <p:nvPr/>
            </p:nvGrpSpPr>
            <p:grpSpPr>
              <a:xfrm>
                <a:off x="2815920" y="1827360"/>
                <a:ext cx="406440" cy="2257920"/>
                <a:chOff x="2815920" y="1827360"/>
                <a:chExt cx="406440" cy="2257920"/>
              </a:xfrm>
            </p:grpSpPr>
            <p:sp>
              <p:nvSpPr>
                <p:cNvPr id="237" name="Text Box 99"/>
                <p:cNvSpPr/>
                <p:nvPr/>
              </p:nvSpPr>
              <p:spPr>
                <a:xfrm>
                  <a:off x="2928600" y="3747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100"/>
                <p:cNvSpPr/>
                <p:nvPr/>
              </p:nvSpPr>
              <p:spPr>
                <a:xfrm>
                  <a:off x="2815920" y="310032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101"/>
                <p:cNvSpPr/>
                <p:nvPr/>
              </p:nvSpPr>
              <p:spPr>
                <a:xfrm>
                  <a:off x="2815920" y="246384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102"/>
                <p:cNvSpPr/>
                <p:nvPr/>
              </p:nvSpPr>
              <p:spPr>
                <a:xfrm>
                  <a:off x="2815920" y="1827360"/>
                  <a:ext cx="4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Text Box 127"/>
              <p:cNvSpPr/>
              <p:nvPr/>
            </p:nvSpPr>
            <p:spPr>
              <a:xfrm rot="16200000">
                <a:off x="1745280" y="246780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 Product, T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39"/>
              <p:cNvGrpSpPr/>
              <p:nvPr/>
            </p:nvGrpSpPr>
            <p:grpSpPr>
              <a:xfrm>
                <a:off x="3470040" y="3913200"/>
                <a:ext cx="3556800" cy="337320"/>
                <a:chOff x="3470040" y="3913200"/>
                <a:chExt cx="3556800" cy="337320"/>
              </a:xfrm>
            </p:grpSpPr>
            <p:sp>
              <p:nvSpPr>
                <p:cNvPr id="243" name="Text Box 140"/>
                <p:cNvSpPr/>
                <p:nvPr/>
              </p:nvSpPr>
              <p:spPr>
                <a:xfrm>
                  <a:off x="34700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41"/>
                <p:cNvSpPr/>
                <p:nvPr/>
              </p:nvSpPr>
              <p:spPr>
                <a:xfrm>
                  <a:off x="38775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Text Box 142"/>
                <p:cNvSpPr/>
                <p:nvPr/>
              </p:nvSpPr>
              <p:spPr>
                <a:xfrm>
                  <a:off x="429660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143"/>
                <p:cNvSpPr/>
                <p:nvPr/>
              </p:nvSpPr>
              <p:spPr>
                <a:xfrm>
                  <a:off x="469368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144"/>
                <p:cNvSpPr/>
                <p:nvPr/>
              </p:nvSpPr>
              <p:spPr>
                <a:xfrm>
                  <a:off x="51015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145"/>
                <p:cNvSpPr/>
                <p:nvPr/>
              </p:nvSpPr>
              <p:spPr>
                <a:xfrm>
                  <a:off x="55094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146"/>
                <p:cNvSpPr/>
                <p:nvPr/>
              </p:nvSpPr>
              <p:spPr>
                <a:xfrm>
                  <a:off x="591768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147"/>
                <p:cNvSpPr/>
                <p:nvPr/>
              </p:nvSpPr>
              <p:spPr>
                <a:xfrm>
                  <a:off x="632556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148"/>
                <p:cNvSpPr/>
                <p:nvPr/>
              </p:nvSpPr>
              <p:spPr>
                <a:xfrm>
                  <a:off x="6733440" y="3913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54"/>
              <p:cNvGrpSpPr/>
              <p:nvPr/>
            </p:nvGrpSpPr>
            <p:grpSpPr>
              <a:xfrm>
                <a:off x="3219480" y="1523880"/>
                <a:ext cx="4075920" cy="2404800"/>
                <a:chOff x="3219480" y="1523880"/>
                <a:chExt cx="4075920" cy="2404800"/>
              </a:xfrm>
            </p:grpSpPr>
            <p:grpSp>
              <p:nvGrpSpPr>
                <p:cNvPr id="253" name="Group 71"/>
                <p:cNvGrpSpPr/>
                <p:nvPr/>
              </p:nvGrpSpPr>
              <p:grpSpPr>
                <a:xfrm>
                  <a:off x="3219480" y="1523880"/>
                  <a:ext cx="4072680" cy="2399760"/>
                  <a:chOff x="3219480" y="1523880"/>
                  <a:chExt cx="4072680" cy="2399760"/>
                </a:xfrm>
              </p:grpSpPr>
              <p:sp>
                <p:nvSpPr>
                  <p:cNvPr id="254" name="Line 72"/>
                  <p:cNvSpPr/>
                  <p:nvPr/>
                </p:nvSpPr>
                <p:spPr>
                  <a:xfrm>
                    <a:off x="3219480" y="392364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73"/>
                  <p:cNvSpPr/>
                  <p:nvPr/>
                </p:nvSpPr>
                <p:spPr>
                  <a:xfrm>
                    <a:off x="3219480" y="327348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74"/>
                  <p:cNvSpPr/>
                  <p:nvPr/>
                </p:nvSpPr>
                <p:spPr>
                  <a:xfrm>
                    <a:off x="3219480" y="263484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75"/>
                  <p:cNvSpPr/>
                  <p:nvPr/>
                </p:nvSpPr>
                <p:spPr>
                  <a:xfrm>
                    <a:off x="3219480" y="199584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76"/>
                  <p:cNvSpPr/>
                  <p:nvPr/>
                </p:nvSpPr>
                <p:spPr>
                  <a:xfrm>
                    <a:off x="3219480" y="1523880"/>
                    <a:ext cx="4072680" cy="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153"/>
                <p:cNvGrpSpPr/>
                <p:nvPr/>
              </p:nvGrpSpPr>
              <p:grpSpPr>
                <a:xfrm>
                  <a:off x="3222360" y="1531800"/>
                  <a:ext cx="4073040" cy="2396880"/>
                  <a:chOff x="3222360" y="1531800"/>
                  <a:chExt cx="4073040" cy="2396880"/>
                </a:xfrm>
              </p:grpSpPr>
              <p:sp>
                <p:nvSpPr>
                  <p:cNvPr id="260" name="Line 62"/>
                  <p:cNvSpPr/>
                  <p:nvPr/>
                </p:nvSpPr>
                <p:spPr>
                  <a:xfrm>
                    <a:off x="32223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3"/>
                  <p:cNvSpPr/>
                  <p:nvPr/>
                </p:nvSpPr>
                <p:spPr>
                  <a:xfrm>
                    <a:off x="36291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4"/>
                  <p:cNvSpPr/>
                  <p:nvPr/>
                </p:nvSpPr>
                <p:spPr>
                  <a:xfrm>
                    <a:off x="403596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5"/>
                  <p:cNvSpPr/>
                  <p:nvPr/>
                </p:nvSpPr>
                <p:spPr>
                  <a:xfrm>
                    <a:off x="444312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6"/>
                  <p:cNvSpPr/>
                  <p:nvPr/>
                </p:nvSpPr>
                <p:spPr>
                  <a:xfrm>
                    <a:off x="48502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7"/>
                  <p:cNvSpPr/>
                  <p:nvPr/>
                </p:nvSpPr>
                <p:spPr>
                  <a:xfrm>
                    <a:off x="52570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8"/>
                  <p:cNvSpPr/>
                  <p:nvPr/>
                </p:nvSpPr>
                <p:spPr>
                  <a:xfrm>
                    <a:off x="566388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9"/>
                  <p:cNvSpPr/>
                  <p:nvPr/>
                </p:nvSpPr>
                <p:spPr>
                  <a:xfrm>
                    <a:off x="607140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0"/>
                  <p:cNvSpPr/>
                  <p:nvPr/>
                </p:nvSpPr>
                <p:spPr>
                  <a:xfrm>
                    <a:off x="647820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151"/>
                  <p:cNvSpPr/>
                  <p:nvPr/>
                </p:nvSpPr>
                <p:spPr>
                  <a:xfrm>
                    <a:off x="688824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52"/>
                  <p:cNvSpPr/>
                  <p:nvPr/>
                </p:nvSpPr>
                <p:spPr>
                  <a:xfrm>
                    <a:off x="7295400" y="1531800"/>
                    <a:ext cx="0" cy="2396880"/>
                  </a:xfrm>
                  <a:prstGeom prst="line">
                    <a:avLst/>
                  </a:prstGeom>
                  <a:ln w="190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1" name="Line 163"/>
            <p:cNvSpPr/>
            <p:nvPr/>
          </p:nvSpPr>
          <p:spPr>
            <a:xfrm>
              <a:off x="3214800" y="1535040"/>
              <a:ext cx="0" cy="23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65"/>
            <p:cNvSpPr/>
            <p:nvPr/>
          </p:nvSpPr>
          <p:spPr>
            <a:xfrm>
              <a:off x="3214800" y="3919680"/>
              <a:ext cx="4082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69"/>
          <p:cNvGrpSpPr/>
          <p:nvPr/>
        </p:nvGrpSpPr>
        <p:grpSpPr>
          <a:xfrm>
            <a:off x="2513160" y="4174200"/>
            <a:ext cx="4794120" cy="2268720"/>
            <a:chOff x="2513160" y="4174200"/>
            <a:chExt cx="4794120" cy="2268720"/>
          </a:xfrm>
        </p:grpSpPr>
        <p:grpSp>
          <p:nvGrpSpPr>
            <p:cNvPr id="274" name="Group 155"/>
            <p:cNvGrpSpPr/>
            <p:nvPr/>
          </p:nvGrpSpPr>
          <p:grpSpPr>
            <a:xfrm>
              <a:off x="2513160" y="4174200"/>
              <a:ext cx="4794120" cy="2268720"/>
              <a:chOff x="2513160" y="4174200"/>
              <a:chExt cx="4794120" cy="2268720"/>
            </a:xfrm>
          </p:grpSpPr>
          <p:grpSp>
            <p:nvGrpSpPr>
              <p:cNvPr id="275" name="Group 135"/>
              <p:cNvGrpSpPr/>
              <p:nvPr/>
            </p:nvGrpSpPr>
            <p:grpSpPr>
              <a:xfrm>
                <a:off x="3211560" y="4361040"/>
                <a:ext cx="4095720" cy="1769400"/>
                <a:chOff x="3211560" y="4361040"/>
                <a:chExt cx="4095720" cy="176940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3211560" y="51195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3211560" y="486432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3211560" y="461232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3211560" y="436104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4"/>
                <p:cNvSpPr/>
                <p:nvPr/>
              </p:nvSpPr>
              <p:spPr>
                <a:xfrm>
                  <a:off x="3211560" y="613044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5"/>
                <p:cNvSpPr/>
                <p:nvPr/>
              </p:nvSpPr>
              <p:spPr>
                <a:xfrm>
                  <a:off x="3211560" y="5873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96"/>
                <p:cNvSpPr/>
                <p:nvPr/>
              </p:nvSpPr>
              <p:spPr>
                <a:xfrm>
                  <a:off x="3211560" y="5621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97"/>
                <p:cNvSpPr/>
                <p:nvPr/>
              </p:nvSpPr>
              <p:spPr>
                <a:xfrm>
                  <a:off x="3211560" y="5369760"/>
                  <a:ext cx="409572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Text Box 107"/>
              <p:cNvSpPr/>
              <p:nvPr/>
            </p:nvSpPr>
            <p:spPr>
              <a:xfrm>
                <a:off x="2827080" y="49356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09"/>
              <p:cNvSpPr/>
              <p:nvPr/>
            </p:nvSpPr>
            <p:spPr>
              <a:xfrm>
                <a:off x="2827080" y="54514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128"/>
              <p:cNvSpPr/>
              <p:nvPr/>
            </p:nvSpPr>
            <p:spPr>
              <a:xfrm rot="16200000">
                <a:off x="1555200" y="5132160"/>
                <a:ext cx="225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rginal Product, M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134"/>
              <p:cNvGrpSpPr/>
              <p:nvPr/>
            </p:nvGrpSpPr>
            <p:grpSpPr>
              <a:xfrm>
                <a:off x="3219480" y="4367160"/>
                <a:ext cx="4083120" cy="1747800"/>
                <a:chOff x="3219480" y="4367160"/>
                <a:chExt cx="4083120" cy="1747800"/>
              </a:xfrm>
            </p:grpSpPr>
            <p:sp>
              <p:nvSpPr>
                <p:cNvPr id="288" name="Line 79"/>
                <p:cNvSpPr/>
                <p:nvPr/>
              </p:nvSpPr>
              <p:spPr>
                <a:xfrm>
                  <a:off x="3219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80"/>
                <p:cNvSpPr/>
                <p:nvPr/>
              </p:nvSpPr>
              <p:spPr>
                <a:xfrm>
                  <a:off x="3627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81"/>
                <p:cNvSpPr/>
                <p:nvPr/>
              </p:nvSpPr>
              <p:spPr>
                <a:xfrm>
                  <a:off x="403524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2"/>
                <p:cNvSpPr/>
                <p:nvPr/>
              </p:nvSpPr>
              <p:spPr>
                <a:xfrm>
                  <a:off x="4443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3"/>
                <p:cNvSpPr/>
                <p:nvPr/>
              </p:nvSpPr>
              <p:spPr>
                <a:xfrm>
                  <a:off x="4851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84"/>
                <p:cNvSpPr/>
                <p:nvPr/>
              </p:nvSpPr>
              <p:spPr>
                <a:xfrm>
                  <a:off x="525924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5"/>
                <p:cNvSpPr/>
                <p:nvPr/>
              </p:nvSpPr>
              <p:spPr>
                <a:xfrm>
                  <a:off x="566748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6"/>
                <p:cNvSpPr/>
                <p:nvPr/>
              </p:nvSpPr>
              <p:spPr>
                <a:xfrm>
                  <a:off x="6075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87"/>
                <p:cNvSpPr/>
                <p:nvPr/>
              </p:nvSpPr>
              <p:spPr>
                <a:xfrm>
                  <a:off x="648324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31"/>
                <p:cNvSpPr/>
                <p:nvPr/>
              </p:nvSpPr>
              <p:spPr>
                <a:xfrm>
                  <a:off x="689436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32"/>
                <p:cNvSpPr/>
                <p:nvPr/>
              </p:nvSpPr>
              <p:spPr>
                <a:xfrm>
                  <a:off x="7302600" y="4367160"/>
                  <a:ext cx="0" cy="1747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38"/>
              <p:cNvGrpSpPr/>
              <p:nvPr/>
            </p:nvGrpSpPr>
            <p:grpSpPr>
              <a:xfrm>
                <a:off x="3473640" y="6105600"/>
                <a:ext cx="3557160" cy="337320"/>
                <a:chOff x="3473640" y="6105600"/>
                <a:chExt cx="3557160" cy="337320"/>
              </a:xfrm>
            </p:grpSpPr>
            <p:sp>
              <p:nvSpPr>
                <p:cNvPr id="300" name="Text Box 120"/>
                <p:cNvSpPr/>
                <p:nvPr/>
              </p:nvSpPr>
              <p:spPr>
                <a:xfrm>
                  <a:off x="347364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121"/>
                <p:cNvSpPr/>
                <p:nvPr/>
              </p:nvSpPr>
              <p:spPr>
                <a:xfrm>
                  <a:off x="3881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122"/>
                <p:cNvSpPr/>
                <p:nvPr/>
              </p:nvSpPr>
              <p:spPr>
                <a:xfrm>
                  <a:off x="430056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123"/>
                <p:cNvSpPr/>
                <p:nvPr/>
              </p:nvSpPr>
              <p:spPr>
                <a:xfrm>
                  <a:off x="469728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124"/>
                <p:cNvSpPr/>
                <p:nvPr/>
              </p:nvSpPr>
              <p:spPr>
                <a:xfrm>
                  <a:off x="5105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Text Box 125"/>
                <p:cNvSpPr/>
                <p:nvPr/>
              </p:nvSpPr>
              <p:spPr>
                <a:xfrm>
                  <a:off x="551340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Text Box 126"/>
                <p:cNvSpPr/>
                <p:nvPr/>
              </p:nvSpPr>
              <p:spPr>
                <a:xfrm>
                  <a:off x="592128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Text Box 136"/>
                <p:cNvSpPr/>
                <p:nvPr/>
              </p:nvSpPr>
              <p:spPr>
                <a:xfrm>
                  <a:off x="632952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Text Box 137"/>
                <p:cNvSpPr/>
                <p:nvPr/>
              </p:nvSpPr>
              <p:spPr>
                <a:xfrm>
                  <a:off x="6737400" y="61056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Line 164"/>
            <p:cNvSpPr/>
            <p:nvPr/>
          </p:nvSpPr>
          <p:spPr>
            <a:xfrm>
              <a:off x="3222720" y="4363920"/>
              <a:ext cx="0" cy="17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68"/>
            <p:cNvSpPr/>
            <p:nvPr/>
          </p:nvSpPr>
          <p:spPr>
            <a:xfrm>
              <a:off x="3214800" y="6129360"/>
              <a:ext cx="408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171"/>
          <p:cNvSpPr/>
          <p:nvPr/>
        </p:nvSpPr>
        <p:spPr>
          <a:xfrm>
            <a:off x="3224160" y="5118120"/>
            <a:ext cx="3060720" cy="12700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1928" h="800">
                <a:moveTo>
                  <a:pt x="0" y="632"/>
                </a:moveTo>
                <a:lnTo>
                  <a:pt x="128" y="316"/>
                </a:lnTo>
                <a:lnTo>
                  <a:pt x="640" y="0"/>
                </a:lnTo>
                <a:lnTo>
                  <a:pt x="1928" y="800"/>
                </a:lnTo>
              </a:path>
            </a:pathLst>
          </a:custGeom>
          <a:noFill/>
          <a:ln w="381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72"/>
          <p:cNvSpPr/>
          <p:nvPr/>
        </p:nvSpPr>
        <p:spPr>
          <a:xfrm>
            <a:off x="3230640" y="5246640"/>
            <a:ext cx="3365280" cy="868320"/>
          </a:xfrm>
          <a:custGeom>
            <a:avLst/>
            <a:gdLst>
              <a:gd name="textAreaLeft" fmla="*/ 0 w 3365280"/>
              <a:gd name="textAreaRight" fmla="*/ 3365640 w 3365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2120" h="547">
                <a:moveTo>
                  <a:pt x="0" y="547"/>
                </a:moveTo>
                <a:cubicBezTo>
                  <a:pt x="178" y="340"/>
                  <a:pt x="355" y="134"/>
                  <a:pt x="632" y="67"/>
                </a:cubicBezTo>
                <a:cubicBezTo>
                  <a:pt x="909" y="0"/>
                  <a:pt x="1416" y="110"/>
                  <a:pt x="1664" y="143"/>
                </a:cubicBezTo>
                <a:cubicBezTo>
                  <a:pt x="1912" y="176"/>
                  <a:pt x="2044" y="243"/>
                  <a:pt x="2120" y="263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74"/>
          <p:cNvSpPr/>
          <p:nvPr/>
        </p:nvSpPr>
        <p:spPr>
          <a:xfrm>
            <a:off x="3218040" y="1965240"/>
            <a:ext cx="3282840" cy="1946520"/>
          </a:xfrm>
          <a:custGeom>
            <a:avLst/>
            <a:gdLst>
              <a:gd name="textAreaLeft" fmla="*/ 0 w 3282840"/>
              <a:gd name="textAreaRight" fmla="*/ 3283200 w 3282840"/>
              <a:gd name="textAreaTop" fmla="*/ 0 h 1946520"/>
              <a:gd name="textAreaBottom" fmla="*/ 1946880 h 1946520"/>
            </a:gdLst>
            <a:ahLst/>
            <a:rect l="textAreaLeft" t="textAreaTop" r="textAreaRight" b="textAreaBottom"/>
            <a:pathLst>
              <a:path w="2068" h="1226">
                <a:moveTo>
                  <a:pt x="0" y="1226"/>
                </a:moveTo>
                <a:cubicBezTo>
                  <a:pt x="89" y="1169"/>
                  <a:pt x="178" y="1113"/>
                  <a:pt x="264" y="1046"/>
                </a:cubicBezTo>
                <a:cubicBezTo>
                  <a:pt x="350" y="979"/>
                  <a:pt x="434" y="919"/>
                  <a:pt x="520" y="822"/>
                </a:cubicBezTo>
                <a:cubicBezTo>
                  <a:pt x="606" y="725"/>
                  <a:pt x="693" y="571"/>
                  <a:pt x="780" y="466"/>
                </a:cubicBezTo>
                <a:cubicBezTo>
                  <a:pt x="867" y="361"/>
                  <a:pt x="912" y="269"/>
                  <a:pt x="1040" y="194"/>
                </a:cubicBezTo>
                <a:cubicBezTo>
                  <a:pt x="1168" y="119"/>
                  <a:pt x="1377" y="36"/>
                  <a:pt x="1548" y="18"/>
                </a:cubicBezTo>
                <a:cubicBezTo>
                  <a:pt x="1719" y="0"/>
                  <a:pt x="1893" y="43"/>
                  <a:pt x="2068" y="86"/>
                </a:cubicBezTo>
              </a:path>
            </a:pathLst>
          </a:custGeom>
          <a:noFill/>
          <a:ln w="381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5"/>
          <p:cNvSpPr/>
          <p:nvPr/>
        </p:nvSpPr>
        <p:spPr>
          <a:xfrm>
            <a:off x="6443640" y="19540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6"/>
          <p:cNvSpPr/>
          <p:nvPr/>
        </p:nvSpPr>
        <p:spPr>
          <a:xfrm>
            <a:off x="6234120" y="63104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7"/>
          <p:cNvSpPr/>
          <p:nvPr/>
        </p:nvSpPr>
        <p:spPr>
          <a:xfrm>
            <a:off x="6538320" y="5516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1"/>
          <p:cNvSpPr/>
          <p:nvPr/>
        </p:nvSpPr>
        <p:spPr>
          <a:xfrm>
            <a:off x="3184920" y="4471920"/>
            <a:ext cx="107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2"/>
          <p:cNvSpPr/>
          <p:nvPr/>
        </p:nvSpPr>
        <p:spPr>
          <a:xfrm>
            <a:off x="4430160" y="4479840"/>
            <a:ext cx="12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in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3"/>
          <p:cNvSpPr/>
          <p:nvPr/>
        </p:nvSpPr>
        <p:spPr>
          <a:xfrm>
            <a:off x="6132240" y="4476600"/>
            <a:ext cx="92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84"/>
          <p:cNvSpPr/>
          <p:nvPr/>
        </p:nvSpPr>
        <p:spPr>
          <a:xfrm rot="16200000">
            <a:off x="3636720" y="3974760"/>
            <a:ext cx="195480" cy="973080"/>
          </a:xfrm>
          <a:custGeom>
            <a:avLst/>
            <a:gdLst>
              <a:gd name="textAreaLeft" fmla="*/ 124920 w 195480"/>
              <a:gd name="textAreaRight" fmla="*/ 195840 w 195480"/>
              <a:gd name="textAreaTop" fmla="*/ 25200 h 973080"/>
              <a:gd name="textAreaBottom" fmla="*/ 947880 h 9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5"/>
          <p:cNvSpPr/>
          <p:nvPr/>
        </p:nvSpPr>
        <p:spPr>
          <a:xfrm rot="16200000">
            <a:off x="4944960" y="3669840"/>
            <a:ext cx="195480" cy="1582920"/>
          </a:xfrm>
          <a:custGeom>
            <a:avLst/>
            <a:gdLst>
              <a:gd name="textAreaLeft" fmla="*/ 124920 w 195480"/>
              <a:gd name="textAreaRight" fmla="*/ 195840 w 19548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86"/>
          <p:cNvSpPr/>
          <p:nvPr/>
        </p:nvSpPr>
        <p:spPr>
          <a:xfrm rot="16200000">
            <a:off x="6484680" y="3749040"/>
            <a:ext cx="195480" cy="1424160"/>
          </a:xfrm>
          <a:custGeom>
            <a:avLst/>
            <a:gdLst>
              <a:gd name="textAreaLeft" fmla="*/ 124920 w 195480"/>
              <a:gd name="textAreaRight" fmla="*/ 195840 w 195480"/>
              <a:gd name="textAreaTop" fmla="*/ 37080 h 1424160"/>
              <a:gd name="textAreaBottom" fmla="*/ 1387080 h 142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843120" y="0"/>
            <a:ext cx="830088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122717B-803B-4B96-9755-3A69DAD7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77400" y="1393920"/>
            <a:ext cx="7086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t vary with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erials, most 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 = TFC + T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F41463E-19FD-4CD0-AB95-3F1CC543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1" dur="1" fill="hold"/>
                                  <p:tgtEl>
                                    <p:spTgt spid="3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Unit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55240" y="1482480"/>
            <a:ext cx="75438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fixed co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C = TFC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variabl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 = TVC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total co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C = TC/Q = TFC/Q + TVC/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AFC+A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C = change in TC/change i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3C6BE3B-7FFF-4400-A74B-E368E23E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5" dur="1" fill="hold"/>
                                  <p:tgtEl>
                                    <p:spTgt spid="3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01"/>
          <p:cNvGrpSpPr/>
          <p:nvPr/>
        </p:nvGrpSpPr>
        <p:grpSpPr>
          <a:xfrm>
            <a:off x="2376360" y="1316160"/>
            <a:ext cx="5749920" cy="5033520"/>
            <a:chOff x="2376360" y="1316160"/>
            <a:chExt cx="5749920" cy="5033520"/>
          </a:xfrm>
        </p:grpSpPr>
        <p:sp>
          <p:nvSpPr>
            <p:cNvPr id="333" name="Text Box 35"/>
            <p:cNvSpPr/>
            <p:nvPr/>
          </p:nvSpPr>
          <p:spPr>
            <a:xfrm rot="16200000">
              <a:off x="2153160" y="35647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87"/>
            <p:cNvGrpSpPr/>
            <p:nvPr/>
          </p:nvGrpSpPr>
          <p:grpSpPr>
            <a:xfrm>
              <a:off x="3251160" y="5976720"/>
              <a:ext cx="4470120" cy="340200"/>
              <a:chOff x="3251160" y="5976720"/>
              <a:chExt cx="4470120" cy="340200"/>
            </a:xfrm>
          </p:grpSpPr>
          <p:sp>
            <p:nvSpPr>
              <p:cNvPr id="335" name="Text Box 37"/>
              <p:cNvSpPr/>
              <p:nvPr/>
            </p:nvSpPr>
            <p:spPr>
              <a:xfrm>
                <a:off x="3665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>
                <a:off x="4073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9"/>
              <p:cNvSpPr/>
              <p:nvPr/>
            </p:nvSpPr>
            <p:spPr>
              <a:xfrm>
                <a:off x="449244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40"/>
              <p:cNvSpPr/>
              <p:nvPr/>
            </p:nvSpPr>
            <p:spPr>
              <a:xfrm>
                <a:off x="4889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41"/>
              <p:cNvSpPr/>
              <p:nvPr/>
            </p:nvSpPr>
            <p:spPr>
              <a:xfrm>
                <a:off x="5297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42"/>
              <p:cNvSpPr/>
              <p:nvPr/>
            </p:nvSpPr>
            <p:spPr>
              <a:xfrm>
                <a:off x="570528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611352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44"/>
              <p:cNvSpPr/>
              <p:nvPr/>
            </p:nvSpPr>
            <p:spPr>
              <a:xfrm>
                <a:off x="652140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45"/>
              <p:cNvSpPr/>
              <p:nvPr/>
            </p:nvSpPr>
            <p:spPr>
              <a:xfrm>
                <a:off x="6929280" y="5979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7"/>
              <p:cNvSpPr/>
              <p:nvPr/>
            </p:nvSpPr>
            <p:spPr>
              <a:xfrm>
                <a:off x="7314840" y="59767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9"/>
              <p:cNvSpPr/>
              <p:nvPr/>
            </p:nvSpPr>
            <p:spPr>
              <a:xfrm>
                <a:off x="3251160" y="59767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89"/>
            <p:cNvGrpSpPr/>
            <p:nvPr/>
          </p:nvGrpSpPr>
          <p:grpSpPr>
            <a:xfrm>
              <a:off x="3408120" y="1476000"/>
              <a:ext cx="4489200" cy="4496760"/>
              <a:chOff x="3408120" y="1476000"/>
              <a:chExt cx="4489200" cy="4496760"/>
            </a:xfrm>
          </p:grpSpPr>
          <p:grpSp>
            <p:nvGrpSpPr>
              <p:cNvPr id="347" name="Group 73"/>
              <p:cNvGrpSpPr/>
              <p:nvPr/>
            </p:nvGrpSpPr>
            <p:grpSpPr>
              <a:xfrm>
                <a:off x="3408120" y="1476000"/>
                <a:ext cx="4481640" cy="4496760"/>
                <a:chOff x="3408120" y="1476000"/>
                <a:chExt cx="4481640" cy="4496760"/>
              </a:xfrm>
            </p:grpSpPr>
            <p:sp>
              <p:nvSpPr>
                <p:cNvPr id="348" name="Line 54"/>
                <p:cNvSpPr/>
                <p:nvPr/>
              </p:nvSpPr>
              <p:spPr>
                <a:xfrm>
                  <a:off x="34081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5"/>
                <p:cNvSpPr/>
                <p:nvPr/>
              </p:nvSpPr>
              <p:spPr>
                <a:xfrm>
                  <a:off x="38145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6"/>
                <p:cNvSpPr/>
                <p:nvPr/>
              </p:nvSpPr>
              <p:spPr>
                <a:xfrm>
                  <a:off x="422280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7"/>
                <p:cNvSpPr/>
                <p:nvPr/>
              </p:nvSpPr>
              <p:spPr>
                <a:xfrm>
                  <a:off x="4628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58"/>
                <p:cNvSpPr/>
                <p:nvPr/>
              </p:nvSpPr>
              <p:spPr>
                <a:xfrm>
                  <a:off x="50371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59"/>
                <p:cNvSpPr/>
                <p:nvPr/>
              </p:nvSpPr>
              <p:spPr>
                <a:xfrm>
                  <a:off x="54435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60"/>
                <p:cNvSpPr/>
                <p:nvPr/>
              </p:nvSpPr>
              <p:spPr>
                <a:xfrm>
                  <a:off x="584964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1"/>
                <p:cNvSpPr/>
                <p:nvPr/>
              </p:nvSpPr>
              <p:spPr>
                <a:xfrm>
                  <a:off x="6257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2"/>
                <p:cNvSpPr/>
                <p:nvPr/>
              </p:nvSpPr>
              <p:spPr>
                <a:xfrm>
                  <a:off x="666432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63"/>
                <p:cNvSpPr/>
                <p:nvPr/>
              </p:nvSpPr>
              <p:spPr>
                <a:xfrm>
                  <a:off x="707544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64"/>
                <p:cNvSpPr/>
                <p:nvPr/>
              </p:nvSpPr>
              <p:spPr>
                <a:xfrm>
                  <a:off x="748188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72"/>
                <p:cNvSpPr/>
                <p:nvPr/>
              </p:nvSpPr>
              <p:spPr>
                <a:xfrm>
                  <a:off x="7889760" y="1476000"/>
                  <a:ext cx="0" cy="44967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4"/>
              <p:cNvGrpSpPr/>
              <p:nvPr/>
            </p:nvGrpSpPr>
            <p:grpSpPr>
              <a:xfrm>
                <a:off x="3409920" y="1480320"/>
                <a:ext cx="4487400" cy="4481280"/>
                <a:chOff x="3409920" y="1480320"/>
                <a:chExt cx="4487400" cy="4481280"/>
              </a:xfrm>
            </p:grpSpPr>
            <p:sp>
              <p:nvSpPr>
                <p:cNvPr id="361" name="Line 75"/>
                <p:cNvSpPr/>
                <p:nvPr/>
              </p:nvSpPr>
              <p:spPr>
                <a:xfrm>
                  <a:off x="3409920" y="59616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76"/>
                <p:cNvSpPr/>
                <p:nvPr/>
              </p:nvSpPr>
              <p:spPr>
                <a:xfrm>
                  <a:off x="3409920" y="55555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77"/>
                <p:cNvSpPr/>
                <p:nvPr/>
              </p:nvSpPr>
              <p:spPr>
                <a:xfrm>
                  <a:off x="3409920" y="514728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78"/>
                <p:cNvSpPr/>
                <p:nvPr/>
              </p:nvSpPr>
              <p:spPr>
                <a:xfrm>
                  <a:off x="3409920" y="4741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9"/>
                <p:cNvSpPr/>
                <p:nvPr/>
              </p:nvSpPr>
              <p:spPr>
                <a:xfrm>
                  <a:off x="3409920" y="433296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0"/>
                <p:cNvSpPr/>
                <p:nvPr/>
              </p:nvSpPr>
              <p:spPr>
                <a:xfrm>
                  <a:off x="3409920" y="39265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81"/>
                <p:cNvSpPr/>
                <p:nvPr/>
              </p:nvSpPr>
              <p:spPr>
                <a:xfrm>
                  <a:off x="3409920" y="352044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82"/>
                <p:cNvSpPr/>
                <p:nvPr/>
              </p:nvSpPr>
              <p:spPr>
                <a:xfrm>
                  <a:off x="3409920" y="3112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83"/>
                <p:cNvSpPr/>
                <p:nvPr/>
              </p:nvSpPr>
              <p:spPr>
                <a:xfrm>
                  <a:off x="3409920" y="270576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84"/>
                <p:cNvSpPr/>
                <p:nvPr/>
              </p:nvSpPr>
              <p:spPr>
                <a:xfrm>
                  <a:off x="3409920" y="229464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85"/>
                <p:cNvSpPr/>
                <p:nvPr/>
              </p:nvSpPr>
              <p:spPr>
                <a:xfrm>
                  <a:off x="3409920" y="188820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86"/>
                <p:cNvSpPr/>
                <p:nvPr/>
              </p:nvSpPr>
              <p:spPr>
                <a:xfrm>
                  <a:off x="3409920" y="1480320"/>
                  <a:ext cx="448740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" name="Group 88"/>
            <p:cNvGrpSpPr/>
            <p:nvPr/>
          </p:nvGrpSpPr>
          <p:grpSpPr>
            <a:xfrm>
              <a:off x="3398760" y="1466640"/>
              <a:ext cx="4506840" cy="4496760"/>
              <a:chOff x="3398760" y="1466640"/>
              <a:chExt cx="4506840" cy="4496760"/>
            </a:xfrm>
          </p:grpSpPr>
          <p:sp>
            <p:nvSpPr>
              <p:cNvPr id="374" name="Line 66"/>
              <p:cNvSpPr/>
              <p:nvPr/>
            </p:nvSpPr>
            <p:spPr>
              <a:xfrm>
                <a:off x="3409920" y="5952240"/>
                <a:ext cx="449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65"/>
              <p:cNvSpPr/>
              <p:nvPr/>
            </p:nvSpPr>
            <p:spPr>
              <a:xfrm>
                <a:off x="3398760" y="1466640"/>
                <a:ext cx="0" cy="449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90"/>
            <p:cNvSpPr/>
            <p:nvPr/>
          </p:nvSpPr>
          <p:spPr>
            <a:xfrm>
              <a:off x="7767360" y="598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00"/>
            <p:cNvGrpSpPr/>
            <p:nvPr/>
          </p:nvGrpSpPr>
          <p:grpSpPr>
            <a:xfrm>
              <a:off x="2682720" y="1316160"/>
              <a:ext cx="744480" cy="4402440"/>
              <a:chOff x="2682720" y="1316160"/>
              <a:chExt cx="744480" cy="4402440"/>
            </a:xfrm>
          </p:grpSpPr>
          <p:sp>
            <p:nvSpPr>
              <p:cNvPr id="378" name="Text Box 31"/>
              <p:cNvSpPr/>
              <p:nvPr/>
            </p:nvSpPr>
            <p:spPr>
              <a:xfrm>
                <a:off x="2908080" y="53812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32"/>
              <p:cNvSpPr/>
              <p:nvPr/>
            </p:nvSpPr>
            <p:spPr>
              <a:xfrm>
                <a:off x="2908080" y="49780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91"/>
              <p:cNvSpPr/>
              <p:nvPr/>
            </p:nvSpPr>
            <p:spPr>
              <a:xfrm>
                <a:off x="2908080" y="45637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92"/>
              <p:cNvSpPr/>
              <p:nvPr/>
            </p:nvSpPr>
            <p:spPr>
              <a:xfrm>
                <a:off x="2908080" y="41605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93"/>
              <p:cNvSpPr/>
              <p:nvPr/>
            </p:nvSpPr>
            <p:spPr>
              <a:xfrm>
                <a:off x="2908080" y="37573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94"/>
              <p:cNvSpPr/>
              <p:nvPr/>
            </p:nvSpPr>
            <p:spPr>
              <a:xfrm>
                <a:off x="2908080" y="3354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95"/>
              <p:cNvSpPr/>
              <p:nvPr/>
            </p:nvSpPr>
            <p:spPr>
              <a:xfrm>
                <a:off x="2908080" y="29397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96"/>
              <p:cNvSpPr/>
              <p:nvPr/>
            </p:nvSpPr>
            <p:spPr>
              <a:xfrm>
                <a:off x="2908080" y="25365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97"/>
              <p:cNvSpPr/>
              <p:nvPr/>
            </p:nvSpPr>
            <p:spPr>
              <a:xfrm>
                <a:off x="2908080" y="21333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98"/>
              <p:cNvSpPr/>
              <p:nvPr/>
            </p:nvSpPr>
            <p:spPr>
              <a:xfrm>
                <a:off x="2795400" y="17190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99"/>
              <p:cNvSpPr/>
              <p:nvPr/>
            </p:nvSpPr>
            <p:spPr>
              <a:xfrm>
                <a:off x="2682720" y="131616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1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Line 102"/>
          <p:cNvSpPr/>
          <p:nvPr/>
        </p:nvSpPr>
        <p:spPr>
          <a:xfrm>
            <a:off x="3406680" y="5551560"/>
            <a:ext cx="4159440" cy="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3"/>
          <p:cNvSpPr/>
          <p:nvPr/>
        </p:nvSpPr>
        <p:spPr>
          <a:xfrm>
            <a:off x="7245360" y="5522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4"/>
          <p:cNvSpPr/>
          <p:nvPr/>
        </p:nvSpPr>
        <p:spPr>
          <a:xfrm>
            <a:off x="3414600" y="2111400"/>
            <a:ext cx="4094280" cy="3832200"/>
          </a:xfrm>
          <a:custGeom>
            <a:avLst/>
            <a:gdLst>
              <a:gd name="textAreaLeft" fmla="*/ 0 w 4094280"/>
              <a:gd name="textAreaRight" fmla="*/ 4094640 w 409428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579" h="2414">
                <a:moveTo>
                  <a:pt x="0" y="2414"/>
                </a:moveTo>
                <a:cubicBezTo>
                  <a:pt x="87" y="2327"/>
                  <a:pt x="175" y="2240"/>
                  <a:pt x="261" y="2160"/>
                </a:cubicBezTo>
                <a:cubicBezTo>
                  <a:pt x="347" y="2080"/>
                  <a:pt x="431" y="1999"/>
                  <a:pt x="515" y="1934"/>
                </a:cubicBezTo>
                <a:cubicBezTo>
                  <a:pt x="599" y="1869"/>
                  <a:pt x="681" y="1821"/>
                  <a:pt x="768" y="1769"/>
                </a:cubicBezTo>
                <a:cubicBezTo>
                  <a:pt x="855" y="1717"/>
                  <a:pt x="949" y="1671"/>
                  <a:pt x="1036" y="1619"/>
                </a:cubicBezTo>
                <a:cubicBezTo>
                  <a:pt x="1123" y="1567"/>
                  <a:pt x="1206" y="1518"/>
                  <a:pt x="1290" y="1454"/>
                </a:cubicBezTo>
                <a:cubicBezTo>
                  <a:pt x="1374" y="1390"/>
                  <a:pt x="1457" y="1317"/>
                  <a:pt x="1543" y="1235"/>
                </a:cubicBezTo>
                <a:cubicBezTo>
                  <a:pt x="1629" y="1153"/>
                  <a:pt x="1717" y="1056"/>
                  <a:pt x="1804" y="960"/>
                </a:cubicBezTo>
                <a:cubicBezTo>
                  <a:pt x="1891" y="864"/>
                  <a:pt x="1978" y="757"/>
                  <a:pt x="2064" y="659"/>
                </a:cubicBezTo>
                <a:cubicBezTo>
                  <a:pt x="2150" y="561"/>
                  <a:pt x="2232" y="481"/>
                  <a:pt x="2318" y="371"/>
                </a:cubicBezTo>
                <a:cubicBezTo>
                  <a:pt x="2404" y="261"/>
                  <a:pt x="2491" y="130"/>
                  <a:pt x="2579" y="0"/>
                </a:cubicBezTo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5"/>
          <p:cNvSpPr/>
          <p:nvPr/>
        </p:nvSpPr>
        <p:spPr>
          <a:xfrm>
            <a:off x="3414600" y="1719360"/>
            <a:ext cx="4094280" cy="3832200"/>
          </a:xfrm>
          <a:custGeom>
            <a:avLst/>
            <a:gdLst>
              <a:gd name="textAreaLeft" fmla="*/ 0 w 4094280"/>
              <a:gd name="textAreaRight" fmla="*/ 4094640 w 4094280"/>
              <a:gd name="textAreaTop" fmla="*/ 0 h 3832200"/>
              <a:gd name="textAreaBottom" fmla="*/ 3832560 h 3832200"/>
            </a:gdLst>
            <a:ahLst/>
            <a:rect l="textAreaLeft" t="textAreaTop" r="textAreaRight" b="textAreaBottom"/>
            <a:pathLst>
              <a:path w="2579" h="2414">
                <a:moveTo>
                  <a:pt x="0" y="2414"/>
                </a:moveTo>
                <a:cubicBezTo>
                  <a:pt x="87" y="2327"/>
                  <a:pt x="175" y="2240"/>
                  <a:pt x="261" y="2160"/>
                </a:cubicBezTo>
                <a:cubicBezTo>
                  <a:pt x="347" y="2080"/>
                  <a:pt x="431" y="1999"/>
                  <a:pt x="515" y="1934"/>
                </a:cubicBezTo>
                <a:cubicBezTo>
                  <a:pt x="599" y="1869"/>
                  <a:pt x="681" y="1821"/>
                  <a:pt x="768" y="1769"/>
                </a:cubicBezTo>
                <a:cubicBezTo>
                  <a:pt x="855" y="1717"/>
                  <a:pt x="949" y="1671"/>
                  <a:pt x="1036" y="1619"/>
                </a:cubicBezTo>
                <a:cubicBezTo>
                  <a:pt x="1123" y="1567"/>
                  <a:pt x="1206" y="1518"/>
                  <a:pt x="1290" y="1454"/>
                </a:cubicBezTo>
                <a:cubicBezTo>
                  <a:pt x="1374" y="1390"/>
                  <a:pt x="1457" y="1317"/>
                  <a:pt x="1543" y="1235"/>
                </a:cubicBezTo>
                <a:cubicBezTo>
                  <a:pt x="1629" y="1153"/>
                  <a:pt x="1717" y="1056"/>
                  <a:pt x="1804" y="960"/>
                </a:cubicBezTo>
                <a:cubicBezTo>
                  <a:pt x="1891" y="864"/>
                  <a:pt x="1978" y="757"/>
                  <a:pt x="2064" y="659"/>
                </a:cubicBezTo>
                <a:cubicBezTo>
                  <a:pt x="2150" y="561"/>
                  <a:pt x="2232" y="481"/>
                  <a:pt x="2318" y="371"/>
                </a:cubicBezTo>
                <a:cubicBezTo>
                  <a:pt x="2404" y="261"/>
                  <a:pt x="2491" y="130"/>
                  <a:pt x="2579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6"/>
          <p:cNvSpPr/>
          <p:nvPr/>
        </p:nvSpPr>
        <p:spPr>
          <a:xfrm>
            <a:off x="7419960" y="1690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7"/>
          <p:cNvSpPr/>
          <p:nvPr/>
        </p:nvSpPr>
        <p:spPr>
          <a:xfrm>
            <a:off x="7317000" y="227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8"/>
          <p:cNvSpPr/>
          <p:nvPr/>
        </p:nvSpPr>
        <p:spPr>
          <a:xfrm>
            <a:off x="5130360" y="4564080"/>
            <a:ext cx="727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09"/>
          <p:cNvSpPr/>
          <p:nvPr/>
        </p:nvSpPr>
        <p:spPr>
          <a:xfrm>
            <a:off x="5788080" y="3505320"/>
            <a:ext cx="284040" cy="2406600"/>
          </a:xfrm>
          <a:custGeom>
            <a:avLst/>
            <a:gdLst>
              <a:gd name="textAreaLeft" fmla="*/ 181440 w 284040"/>
              <a:gd name="textAreaRight" fmla="*/ 284040 w 284040"/>
              <a:gd name="textAreaTop" fmla="*/ 62640 h 2406600"/>
              <a:gd name="textAreaBottom" fmla="*/ 2343960 h 2406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0"/>
          <p:cNvSpPr/>
          <p:nvPr/>
        </p:nvSpPr>
        <p:spPr>
          <a:xfrm flipH="1">
            <a:off x="6084720" y="3871800"/>
            <a:ext cx="284400" cy="2036880"/>
          </a:xfrm>
          <a:custGeom>
            <a:avLst/>
            <a:gdLst>
              <a:gd name="textAreaLeft" fmla="*/ 181800 w 284400"/>
              <a:gd name="textAreaRight" fmla="*/ 284760 w 284400"/>
              <a:gd name="textAreaTop" fmla="*/ 52920 h 2036880"/>
              <a:gd name="textAreaBottom" fmla="*/ 1983960 h 203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11"/>
          <p:cNvSpPr/>
          <p:nvPr/>
        </p:nvSpPr>
        <p:spPr>
          <a:xfrm flipH="1">
            <a:off x="6092280" y="3492360"/>
            <a:ext cx="284040" cy="360360"/>
          </a:xfrm>
          <a:custGeom>
            <a:avLst/>
            <a:gdLst>
              <a:gd name="textAreaLeft" fmla="*/ 181440 w 284040"/>
              <a:gd name="textAreaRight" fmla="*/ 284040 w 2840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2"/>
          <p:cNvSpPr/>
          <p:nvPr/>
        </p:nvSpPr>
        <p:spPr>
          <a:xfrm>
            <a:off x="6267600" y="4605480"/>
            <a:ext cx="106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3"/>
          <p:cNvSpPr/>
          <p:nvPr/>
        </p:nvSpPr>
        <p:spPr>
          <a:xfrm>
            <a:off x="6343560" y="3535200"/>
            <a:ext cx="7779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14"/>
          <p:cNvSpPr/>
          <p:nvPr/>
        </p:nvSpPr>
        <p:spPr>
          <a:xfrm>
            <a:off x="4518000" y="4551480"/>
            <a:ext cx="465120" cy="2379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5"/>
          <p:cNvSpPr/>
          <p:nvPr/>
        </p:nvSpPr>
        <p:spPr>
          <a:xfrm>
            <a:off x="6492960" y="2836800"/>
            <a:ext cx="465120" cy="2383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003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BF005B9E-B82C-4AF0-AB41-D22922C0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5393 L -2.22222E-006 3.33333E-006 E">
                                      <p:cBhvr>
                                        <p:cTn id="67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193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1"/>
          <p:cNvGrpSpPr/>
          <p:nvPr/>
        </p:nvGrpSpPr>
        <p:grpSpPr>
          <a:xfrm>
            <a:off x="2376360" y="1303200"/>
            <a:ext cx="5749920" cy="5046840"/>
            <a:chOff x="2376360" y="1303200"/>
            <a:chExt cx="5749920" cy="5046840"/>
          </a:xfrm>
        </p:grpSpPr>
        <p:sp>
          <p:nvSpPr>
            <p:cNvPr id="406" name="Text Box 5"/>
            <p:cNvSpPr/>
            <p:nvPr/>
          </p:nvSpPr>
          <p:spPr>
            <a:xfrm rot="16200000">
              <a:off x="2153160" y="3565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3251160" y="5977080"/>
              <a:ext cx="4470120" cy="340200"/>
              <a:chOff x="3251160" y="5977080"/>
              <a:chExt cx="4470120" cy="340200"/>
            </a:xfrm>
          </p:grpSpPr>
          <p:sp>
            <p:nvSpPr>
              <p:cNvPr id="408" name="Text Box 7"/>
              <p:cNvSpPr/>
              <p:nvPr/>
            </p:nvSpPr>
            <p:spPr>
              <a:xfrm>
                <a:off x="3665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8"/>
              <p:cNvSpPr/>
              <p:nvPr/>
            </p:nvSpPr>
            <p:spPr>
              <a:xfrm>
                <a:off x="407340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9"/>
              <p:cNvSpPr/>
              <p:nvPr/>
            </p:nvSpPr>
            <p:spPr>
              <a:xfrm>
                <a:off x="44924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0"/>
              <p:cNvSpPr/>
              <p:nvPr/>
            </p:nvSpPr>
            <p:spPr>
              <a:xfrm>
                <a:off x="4889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 Box 11"/>
              <p:cNvSpPr/>
              <p:nvPr/>
            </p:nvSpPr>
            <p:spPr>
              <a:xfrm>
                <a:off x="52970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2"/>
              <p:cNvSpPr/>
              <p:nvPr/>
            </p:nvSpPr>
            <p:spPr>
              <a:xfrm>
                <a:off x="570528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3"/>
              <p:cNvSpPr/>
              <p:nvPr/>
            </p:nvSpPr>
            <p:spPr>
              <a:xfrm>
                <a:off x="611316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4"/>
              <p:cNvSpPr/>
              <p:nvPr/>
            </p:nvSpPr>
            <p:spPr>
              <a:xfrm>
                <a:off x="652104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5"/>
              <p:cNvSpPr/>
              <p:nvPr/>
            </p:nvSpPr>
            <p:spPr>
              <a:xfrm>
                <a:off x="6929280" y="5979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7314840" y="597708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7"/>
              <p:cNvSpPr/>
              <p:nvPr/>
            </p:nvSpPr>
            <p:spPr>
              <a:xfrm>
                <a:off x="3251160" y="59770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9"/>
            <p:cNvGrpSpPr/>
            <p:nvPr/>
          </p:nvGrpSpPr>
          <p:grpSpPr>
            <a:xfrm>
              <a:off x="3408480" y="1476360"/>
              <a:ext cx="4481280" cy="4497120"/>
              <a:chOff x="3408480" y="1476360"/>
              <a:chExt cx="4481280" cy="4497120"/>
            </a:xfrm>
          </p:grpSpPr>
          <p:sp>
            <p:nvSpPr>
              <p:cNvPr id="420" name="Line 20"/>
              <p:cNvSpPr/>
              <p:nvPr/>
            </p:nvSpPr>
            <p:spPr>
              <a:xfrm>
                <a:off x="34084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21"/>
              <p:cNvSpPr/>
              <p:nvPr/>
            </p:nvSpPr>
            <p:spPr>
              <a:xfrm>
                <a:off x="38145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22"/>
              <p:cNvSpPr/>
              <p:nvPr/>
            </p:nvSpPr>
            <p:spPr>
              <a:xfrm>
                <a:off x="422280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23"/>
              <p:cNvSpPr/>
              <p:nvPr/>
            </p:nvSpPr>
            <p:spPr>
              <a:xfrm>
                <a:off x="4628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24"/>
              <p:cNvSpPr/>
              <p:nvPr/>
            </p:nvSpPr>
            <p:spPr>
              <a:xfrm>
                <a:off x="503712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25"/>
              <p:cNvSpPr/>
              <p:nvPr/>
            </p:nvSpPr>
            <p:spPr>
              <a:xfrm>
                <a:off x="54435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26"/>
              <p:cNvSpPr/>
              <p:nvPr/>
            </p:nvSpPr>
            <p:spPr>
              <a:xfrm>
                <a:off x="584964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27"/>
              <p:cNvSpPr/>
              <p:nvPr/>
            </p:nvSpPr>
            <p:spPr>
              <a:xfrm>
                <a:off x="6257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8"/>
              <p:cNvSpPr/>
              <p:nvPr/>
            </p:nvSpPr>
            <p:spPr>
              <a:xfrm>
                <a:off x="666432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9"/>
              <p:cNvSpPr/>
              <p:nvPr/>
            </p:nvSpPr>
            <p:spPr>
              <a:xfrm>
                <a:off x="707544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30"/>
              <p:cNvSpPr/>
              <p:nvPr/>
            </p:nvSpPr>
            <p:spPr>
              <a:xfrm>
                <a:off x="748188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1"/>
              <p:cNvSpPr/>
              <p:nvPr/>
            </p:nvSpPr>
            <p:spPr>
              <a:xfrm>
                <a:off x="7889760" y="1476360"/>
                <a:ext cx="0" cy="449712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80"/>
            <p:cNvGrpSpPr/>
            <p:nvPr/>
          </p:nvGrpSpPr>
          <p:grpSpPr>
            <a:xfrm>
              <a:off x="3409920" y="1468440"/>
              <a:ext cx="4487760" cy="4495680"/>
              <a:chOff x="3409920" y="1468440"/>
              <a:chExt cx="4487760" cy="4495680"/>
            </a:xfrm>
          </p:grpSpPr>
          <p:sp>
            <p:nvSpPr>
              <p:cNvPr id="433" name="Line 33"/>
              <p:cNvSpPr/>
              <p:nvPr/>
            </p:nvSpPr>
            <p:spPr>
              <a:xfrm>
                <a:off x="3409920" y="596412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35"/>
              <p:cNvSpPr/>
              <p:nvPr/>
            </p:nvSpPr>
            <p:spPr>
              <a:xfrm>
                <a:off x="3409920" y="484020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7"/>
              <p:cNvSpPr/>
              <p:nvPr/>
            </p:nvSpPr>
            <p:spPr>
              <a:xfrm>
                <a:off x="3409920" y="371484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39"/>
              <p:cNvSpPr/>
              <p:nvPr/>
            </p:nvSpPr>
            <p:spPr>
              <a:xfrm>
                <a:off x="3409920" y="259236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3409920" y="1468440"/>
                <a:ext cx="448776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5"/>
            <p:cNvGrpSpPr/>
            <p:nvPr/>
          </p:nvGrpSpPr>
          <p:grpSpPr>
            <a:xfrm>
              <a:off x="3398760" y="1467000"/>
              <a:ext cx="4506840" cy="4497120"/>
              <a:chOff x="3398760" y="1467000"/>
              <a:chExt cx="4506840" cy="4497120"/>
            </a:xfrm>
          </p:grpSpPr>
          <p:sp>
            <p:nvSpPr>
              <p:cNvPr id="439" name="Line 46"/>
              <p:cNvSpPr/>
              <p:nvPr/>
            </p:nvSpPr>
            <p:spPr>
              <a:xfrm>
                <a:off x="3409920" y="5952960"/>
                <a:ext cx="449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7"/>
              <p:cNvSpPr/>
              <p:nvPr/>
            </p:nvSpPr>
            <p:spPr>
              <a:xfrm>
                <a:off x="3398760" y="1467000"/>
                <a:ext cx="0" cy="449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48"/>
            <p:cNvSpPr/>
            <p:nvPr/>
          </p:nvSpPr>
          <p:spPr>
            <a:xfrm>
              <a:off x="7767360" y="59817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78"/>
            <p:cNvGrpSpPr/>
            <p:nvPr/>
          </p:nvGrpSpPr>
          <p:grpSpPr>
            <a:xfrm>
              <a:off x="2786040" y="1303200"/>
              <a:ext cx="631800" cy="3712320"/>
              <a:chOff x="2786040" y="1303200"/>
              <a:chExt cx="631800" cy="3712320"/>
            </a:xfrm>
          </p:grpSpPr>
          <p:sp>
            <p:nvSpPr>
              <p:cNvPr id="443" name="Text Box 51"/>
              <p:cNvSpPr/>
              <p:nvPr/>
            </p:nvSpPr>
            <p:spPr>
              <a:xfrm>
                <a:off x="3011400" y="46782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2898720" y="35384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5"/>
              <p:cNvSpPr/>
              <p:nvPr/>
            </p:nvSpPr>
            <p:spPr>
              <a:xfrm>
                <a:off x="2898720" y="2421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57"/>
              <p:cNvSpPr/>
              <p:nvPr/>
            </p:nvSpPr>
            <p:spPr>
              <a:xfrm>
                <a:off x="2786040" y="13032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$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Freeform 84"/>
          <p:cNvSpPr/>
          <p:nvPr/>
        </p:nvSpPr>
        <p:spPr>
          <a:xfrm>
            <a:off x="3852720" y="3821040"/>
            <a:ext cx="3637080" cy="511200"/>
          </a:xfrm>
          <a:custGeom>
            <a:avLst/>
            <a:gdLst/>
            <a:ahLst/>
            <a:rect l="l" t="t" r="r" b="b"/>
            <a:pathLst>
              <a:path w="2291" h="322">
                <a:moveTo>
                  <a:pt x="0" y="41"/>
                </a:moveTo>
                <a:cubicBezTo>
                  <a:pt x="310" y="181"/>
                  <a:pt x="620" y="322"/>
                  <a:pt x="1002" y="315"/>
                </a:cubicBezTo>
                <a:cubicBezTo>
                  <a:pt x="1384" y="308"/>
                  <a:pt x="1837" y="154"/>
                  <a:pt x="2291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85"/>
          <p:cNvSpPr/>
          <p:nvPr/>
        </p:nvSpPr>
        <p:spPr>
          <a:xfrm>
            <a:off x="3809880" y="1698480"/>
            <a:ext cx="3668760" cy="2252880"/>
          </a:xfrm>
          <a:custGeom>
            <a:avLst/>
            <a:gdLst>
              <a:gd name="textAreaLeft" fmla="*/ 0 w 3668760"/>
              <a:gd name="textAreaRight" fmla="*/ 3669120 w 3668760"/>
              <a:gd name="textAreaTop" fmla="*/ 0 h 2252880"/>
              <a:gd name="textAreaBottom" fmla="*/ 2253240 h 2252880"/>
            </a:gdLst>
            <a:ahLst/>
            <a:rect l="textAreaLeft" t="textAreaTop" r="textAreaRight" b="textAreaBottom"/>
            <a:pathLst>
              <a:path w="2311" h="1419">
                <a:moveTo>
                  <a:pt x="0" y="0"/>
                </a:moveTo>
                <a:cubicBezTo>
                  <a:pt x="88" y="237"/>
                  <a:pt x="177" y="475"/>
                  <a:pt x="261" y="651"/>
                </a:cubicBezTo>
                <a:cubicBezTo>
                  <a:pt x="345" y="827"/>
                  <a:pt x="421" y="953"/>
                  <a:pt x="507" y="1056"/>
                </a:cubicBezTo>
                <a:cubicBezTo>
                  <a:pt x="593" y="1159"/>
                  <a:pt x="621" y="1210"/>
                  <a:pt x="775" y="1268"/>
                </a:cubicBezTo>
                <a:cubicBezTo>
                  <a:pt x="929" y="1326"/>
                  <a:pt x="1177" y="1419"/>
                  <a:pt x="1433" y="1405"/>
                </a:cubicBezTo>
                <a:cubicBezTo>
                  <a:pt x="1689" y="1391"/>
                  <a:pt x="2000" y="1288"/>
                  <a:pt x="2311" y="1186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83"/>
          <p:cNvSpPr/>
          <p:nvPr/>
        </p:nvSpPr>
        <p:spPr>
          <a:xfrm>
            <a:off x="3875040" y="2416320"/>
            <a:ext cx="3603600" cy="2030400"/>
          </a:xfrm>
          <a:custGeom>
            <a:avLst/>
            <a:gdLst>
              <a:gd name="textAreaLeft" fmla="*/ 0 w 3603600"/>
              <a:gd name="textAreaRight" fmla="*/ 3603600 w 3603600"/>
              <a:gd name="textAreaTop" fmla="*/ 0 h 2030400"/>
              <a:gd name="textAreaBottom" fmla="*/ 2030760 h 2030400"/>
            </a:gdLst>
            <a:ahLst/>
            <a:rect l="textAreaLeft" t="textAreaTop" r="textAreaRight" b="textAreaBottom"/>
            <a:pathLst>
              <a:path w="2270" h="1279">
                <a:moveTo>
                  <a:pt x="0" y="919"/>
                </a:moveTo>
                <a:cubicBezTo>
                  <a:pt x="242" y="1099"/>
                  <a:pt x="484" y="1279"/>
                  <a:pt x="734" y="1269"/>
                </a:cubicBezTo>
                <a:cubicBezTo>
                  <a:pt x="984" y="1259"/>
                  <a:pt x="1246" y="1069"/>
                  <a:pt x="1502" y="857"/>
                </a:cubicBezTo>
                <a:cubicBezTo>
                  <a:pt x="1758" y="645"/>
                  <a:pt x="2014" y="322"/>
                  <a:pt x="2270" y="0"/>
                </a:cubicBezTo>
              </a:path>
            </a:pathLst>
          </a:cu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82"/>
          <p:cNvSpPr/>
          <p:nvPr/>
        </p:nvSpPr>
        <p:spPr>
          <a:xfrm>
            <a:off x="3809880" y="3657600"/>
            <a:ext cx="3668760" cy="2046240"/>
          </a:xfrm>
          <a:custGeom>
            <a:avLst/>
            <a:gdLst>
              <a:gd name="textAreaLeft" fmla="*/ 0 w 3668760"/>
              <a:gd name="textAreaRight" fmla="*/ 3669120 w 3668760"/>
              <a:gd name="textAreaTop" fmla="*/ 0 h 2046240"/>
              <a:gd name="textAreaBottom" fmla="*/ 2046240 h 2046240"/>
            </a:gdLst>
            <a:ahLst/>
            <a:rect l="textAreaLeft" t="textAreaTop" r="textAreaRight" b="textAreaBottom"/>
            <a:pathLst>
              <a:path w="2311" h="1289">
                <a:moveTo>
                  <a:pt x="0" y="0"/>
                </a:moveTo>
                <a:cubicBezTo>
                  <a:pt x="63" y="284"/>
                  <a:pt x="126" y="569"/>
                  <a:pt x="254" y="747"/>
                </a:cubicBezTo>
                <a:cubicBezTo>
                  <a:pt x="382" y="925"/>
                  <a:pt x="425" y="980"/>
                  <a:pt x="768" y="1070"/>
                </a:cubicBezTo>
                <a:cubicBezTo>
                  <a:pt x="1111" y="1160"/>
                  <a:pt x="1711" y="1224"/>
                  <a:pt x="2311" y="1289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7423200" y="552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0"/>
          <p:cNvSpPr/>
          <p:nvPr/>
        </p:nvSpPr>
        <p:spPr>
          <a:xfrm>
            <a:off x="7452000" y="2187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1"/>
          <p:cNvSpPr/>
          <p:nvPr/>
        </p:nvSpPr>
        <p:spPr>
          <a:xfrm>
            <a:off x="7450200" y="3352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2"/>
          <p:cNvSpPr/>
          <p:nvPr/>
        </p:nvSpPr>
        <p:spPr>
          <a:xfrm>
            <a:off x="7449120" y="3637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93"/>
          <p:cNvSpPr/>
          <p:nvPr/>
        </p:nvSpPr>
        <p:spPr>
          <a:xfrm flipH="1">
            <a:off x="5473080" y="4351320"/>
            <a:ext cx="284040" cy="1557360"/>
          </a:xfrm>
          <a:custGeom>
            <a:avLst/>
            <a:gdLst>
              <a:gd name="textAreaLeft" fmla="*/ 181440 w 284040"/>
              <a:gd name="textAreaRight" fmla="*/ 284040 w 28404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4"/>
          <p:cNvSpPr/>
          <p:nvPr/>
        </p:nvSpPr>
        <p:spPr>
          <a:xfrm>
            <a:off x="5737680" y="4971960"/>
            <a:ext cx="662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5"/>
          <p:cNvSpPr/>
          <p:nvPr/>
        </p:nvSpPr>
        <p:spPr>
          <a:xfrm flipH="1">
            <a:off x="5469840" y="3848040"/>
            <a:ext cx="284040" cy="457200"/>
          </a:xfrm>
          <a:custGeom>
            <a:avLst/>
            <a:gdLst>
              <a:gd name="textAreaLeft" fmla="*/ 181440 w 284040"/>
              <a:gd name="textAreaRight" fmla="*/ 284040 w 2840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6"/>
          <p:cNvSpPr/>
          <p:nvPr/>
        </p:nvSpPr>
        <p:spPr>
          <a:xfrm>
            <a:off x="5740560" y="3941640"/>
            <a:ext cx="65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41B75FF9-C8E2-4DC8-9E97-B2A2AF5C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51040" y="1196640"/>
            <a:ext cx="8292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diminishing ret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marginal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average variable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cost and average total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on curves and cost cu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fts in cost cur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C762183-E864-4309-B129-B5B718163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4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17"/>
          <p:cNvGrpSpPr/>
          <p:nvPr/>
        </p:nvGrpSpPr>
        <p:grpSpPr>
          <a:xfrm>
            <a:off x="1865160" y="944640"/>
            <a:ext cx="6089760" cy="5315040"/>
            <a:chOff x="1865160" y="944640"/>
            <a:chExt cx="6089760" cy="5315040"/>
          </a:xfrm>
        </p:grpSpPr>
        <p:sp>
          <p:nvSpPr>
            <p:cNvPr id="464" name="Rectangle 5"/>
            <p:cNvSpPr/>
            <p:nvPr/>
          </p:nvSpPr>
          <p:spPr>
            <a:xfrm>
              <a:off x="2643120" y="944640"/>
              <a:ext cx="5311800" cy="2384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2639880" y="3875040"/>
              <a:ext cx="5311800" cy="2384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1"/>
            <p:cNvSpPr/>
            <p:nvPr/>
          </p:nvSpPr>
          <p:spPr>
            <a:xfrm rot="16200000">
              <a:off x="1046160" y="1836720"/>
              <a:ext cx="22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erage Product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 rot="16200000">
              <a:off x="1524600" y="4861800"/>
              <a:ext cx="150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 (Dolla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792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7"/>
          <p:cNvSpPr/>
          <p:nvPr/>
        </p:nvSpPr>
        <p:spPr>
          <a:xfrm>
            <a:off x="2906640" y="1227240"/>
            <a:ext cx="3581640" cy="193968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256" h="1222">
                <a:moveTo>
                  <a:pt x="0" y="921"/>
                </a:moveTo>
                <a:cubicBezTo>
                  <a:pt x="288" y="460"/>
                  <a:pt x="577" y="0"/>
                  <a:pt x="953" y="50"/>
                </a:cubicBezTo>
                <a:cubicBezTo>
                  <a:pt x="1329" y="100"/>
                  <a:pt x="1792" y="661"/>
                  <a:pt x="2256" y="1222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8"/>
          <p:cNvSpPr/>
          <p:nvPr/>
        </p:nvSpPr>
        <p:spPr>
          <a:xfrm flipV="1">
            <a:off x="2914560" y="4090320"/>
            <a:ext cx="3581640" cy="1940040"/>
          </a:xfrm>
          <a:custGeom>
            <a:avLst/>
            <a:gdLst>
              <a:gd name="textAreaLeft" fmla="*/ 0 w 3581640"/>
              <a:gd name="textAreaRight" fmla="*/ 3582000 w 3581640"/>
              <a:gd name="textAreaTop" fmla="*/ -360 h 1940040"/>
              <a:gd name="textAreaBottom" fmla="*/ 1940040 h 1940040"/>
            </a:gdLst>
            <a:ahLst/>
            <a:rect l="textAreaLeft" t="textAreaTop" r="textAreaRight" b="textAreaBottom"/>
            <a:pathLst>
              <a:path w="2256" h="1222">
                <a:moveTo>
                  <a:pt x="0" y="921"/>
                </a:moveTo>
                <a:cubicBezTo>
                  <a:pt x="288" y="460"/>
                  <a:pt x="577" y="0"/>
                  <a:pt x="953" y="50"/>
                </a:cubicBezTo>
                <a:cubicBezTo>
                  <a:pt x="1329" y="100"/>
                  <a:pt x="1792" y="661"/>
                  <a:pt x="2256" y="1222"/>
                </a:cubicBezTo>
              </a:path>
            </a:pathLst>
          </a:custGeom>
          <a:noFill/>
          <a:ln w="5724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9"/>
          <p:cNvSpPr/>
          <p:nvPr/>
        </p:nvSpPr>
        <p:spPr>
          <a:xfrm>
            <a:off x="2976480" y="1725480"/>
            <a:ext cx="4442040" cy="1276560"/>
          </a:xfrm>
          <a:custGeom>
            <a:avLst/>
            <a:gdLst>
              <a:gd name="textAreaLeft" fmla="*/ 0 w 4442040"/>
              <a:gd name="textAreaRight" fmla="*/ 4442400 w 444204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2887" h="681">
                <a:moveTo>
                  <a:pt x="0" y="681"/>
                </a:moveTo>
                <a:cubicBezTo>
                  <a:pt x="459" y="356"/>
                  <a:pt x="918" y="32"/>
                  <a:pt x="1399" y="16"/>
                </a:cubicBezTo>
                <a:cubicBezTo>
                  <a:pt x="1880" y="0"/>
                  <a:pt x="2383" y="292"/>
                  <a:pt x="2887" y="585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0"/>
          <p:cNvSpPr/>
          <p:nvPr/>
        </p:nvSpPr>
        <p:spPr>
          <a:xfrm flipV="1">
            <a:off x="2973240" y="4267080"/>
            <a:ext cx="4442040" cy="1276560"/>
          </a:xfrm>
          <a:custGeom>
            <a:avLst/>
            <a:gdLst>
              <a:gd name="textAreaLeft" fmla="*/ 0 w 4442040"/>
              <a:gd name="textAreaRight" fmla="*/ 4442400 w 4442040"/>
              <a:gd name="textAreaTop" fmla="*/ 360 h 1276560"/>
              <a:gd name="textAreaBottom" fmla="*/ 1277280 h 1276560"/>
            </a:gdLst>
            <a:ahLst/>
            <a:rect l="textAreaLeft" t="textAreaTop" r="textAreaRight" b="textAreaBottom"/>
            <a:pathLst>
              <a:path w="2887" h="681">
                <a:moveTo>
                  <a:pt x="0" y="681"/>
                </a:moveTo>
                <a:cubicBezTo>
                  <a:pt x="459" y="356"/>
                  <a:pt x="918" y="32"/>
                  <a:pt x="1399" y="16"/>
                </a:cubicBezTo>
                <a:cubicBezTo>
                  <a:pt x="1880" y="0"/>
                  <a:pt x="2383" y="292"/>
                  <a:pt x="2887" y="585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505560" y="2932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7380360" y="263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480360" y="38847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7244280" y="41036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8"/>
          <p:cNvSpPr/>
          <p:nvPr/>
        </p:nvSpPr>
        <p:spPr>
          <a:xfrm>
            <a:off x="4316400" y="1273320"/>
            <a:ext cx="0" cy="4986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9"/>
          <p:cNvSpPr/>
          <p:nvPr/>
        </p:nvSpPr>
        <p:spPr>
          <a:xfrm>
            <a:off x="5208480" y="1738440"/>
            <a:ext cx="0" cy="45291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245120" y="124128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1"/>
          <p:cNvSpPr/>
          <p:nvPr/>
        </p:nvSpPr>
        <p:spPr>
          <a:xfrm>
            <a:off x="5143680" y="167148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2"/>
          <p:cNvSpPr/>
          <p:nvPr/>
        </p:nvSpPr>
        <p:spPr>
          <a:xfrm>
            <a:off x="5145120" y="5432400"/>
            <a:ext cx="1411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246560" y="587700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4"/>
          <p:cNvSpPr/>
          <p:nvPr/>
        </p:nvSpPr>
        <p:spPr>
          <a:xfrm>
            <a:off x="3945600" y="62658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3933720" y="3340080"/>
            <a:ext cx="1879560" cy="51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 of La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6"/>
          <p:cNvSpPr/>
          <p:nvPr/>
        </p:nvSpPr>
        <p:spPr>
          <a:xfrm>
            <a:off x="5736960" y="9414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7"/>
          <p:cNvSpPr/>
          <p:nvPr/>
        </p:nvSpPr>
        <p:spPr>
          <a:xfrm>
            <a:off x="6420960" y="5888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55CC80B-9AB0-4B62-88DA-2879560F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Production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41480" y="1331640"/>
            <a:ext cx="7810560" cy="58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your plant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A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ATC cur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 A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velope of short run A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0A74FD8-BF3D-4A2B-A021-839D8F24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1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4" dur="1" fill="hold"/>
                                  <p:tgtEl>
                                    <p:spTgt spid="4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7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9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1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4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9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1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014200" y="538632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number of short-run opt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cost curves can be 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79B19E8B-025B-45FB-B362-D428F799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0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51040" y="0"/>
            <a:ext cx="8292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5"/>
          <p:cNvSpPr/>
          <p:nvPr/>
        </p:nvSpPr>
        <p:spPr>
          <a:xfrm>
            <a:off x="4908600" y="311796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"/>
          <p:cNvSpPr/>
          <p:nvPr/>
        </p:nvSpPr>
        <p:spPr>
          <a:xfrm rot="1667400">
            <a:off x="2493720" y="252540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 rot="19965600">
            <a:off x="6961320" y="21920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8"/>
          <p:cNvSpPr/>
          <p:nvPr/>
        </p:nvSpPr>
        <p:spPr>
          <a:xfrm rot="1667400">
            <a:off x="3191040" y="2789280"/>
            <a:ext cx="1099800" cy="330120"/>
          </a:xfrm>
          <a:custGeom>
            <a:avLst/>
            <a:gdLst>
              <a:gd name="textAreaLeft" fmla="*/ 0 w 1099800"/>
              <a:gd name="textAreaRight" fmla="*/ 1099800 w 10998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9"/>
          <p:cNvSpPr/>
          <p:nvPr/>
        </p:nvSpPr>
        <p:spPr>
          <a:xfrm rot="1667400">
            <a:off x="3820680" y="298584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0"/>
          <p:cNvSpPr/>
          <p:nvPr/>
        </p:nvSpPr>
        <p:spPr>
          <a:xfrm rot="1073400">
            <a:off x="4451400" y="310500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1"/>
          <p:cNvSpPr/>
          <p:nvPr/>
        </p:nvSpPr>
        <p:spPr>
          <a:xfrm rot="19965600">
            <a:off x="6558120" y="2477880"/>
            <a:ext cx="1100160" cy="33012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2"/>
          <p:cNvSpPr/>
          <p:nvPr/>
        </p:nvSpPr>
        <p:spPr>
          <a:xfrm rot="19965600">
            <a:off x="5976720" y="284112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3"/>
          <p:cNvSpPr/>
          <p:nvPr/>
        </p:nvSpPr>
        <p:spPr>
          <a:xfrm rot="20551800">
            <a:off x="5473800" y="3027240"/>
            <a:ext cx="1100160" cy="33048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693" h="208">
                <a:moveTo>
                  <a:pt x="0" y="14"/>
                </a:moveTo>
                <a:cubicBezTo>
                  <a:pt x="124" y="111"/>
                  <a:pt x="248" y="208"/>
                  <a:pt x="363" y="206"/>
                </a:cubicBezTo>
                <a:cubicBezTo>
                  <a:pt x="478" y="204"/>
                  <a:pt x="585" y="102"/>
                  <a:pt x="693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7243560" y="266688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2280240" y="20019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8"/>
          <p:cNvSpPr/>
          <p:nvPr/>
        </p:nvSpPr>
        <p:spPr>
          <a:xfrm>
            <a:off x="3543840" y="24764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9"/>
          <p:cNvSpPr/>
          <p:nvPr/>
        </p:nvSpPr>
        <p:spPr>
          <a:xfrm>
            <a:off x="4585320" y="28288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0"/>
          <p:cNvSpPr/>
          <p:nvPr/>
        </p:nvSpPr>
        <p:spPr>
          <a:xfrm>
            <a:off x="5626800" y="2825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1"/>
          <p:cNvSpPr/>
          <p:nvPr/>
        </p:nvSpPr>
        <p:spPr>
          <a:xfrm>
            <a:off x="6501240" y="21668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C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4"/>
          <p:cNvSpPr/>
          <p:nvPr/>
        </p:nvSpPr>
        <p:spPr>
          <a:xfrm>
            <a:off x="2438280" y="2255760"/>
            <a:ext cx="5519880" cy="1271520"/>
          </a:xfrm>
          <a:custGeom>
            <a:avLst/>
            <a:gdLst>
              <a:gd name="textAreaLeft" fmla="*/ 0 w 5519880"/>
              <a:gd name="textAreaRight" fmla="*/ 5520240 w 551988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477" h="801">
                <a:moveTo>
                  <a:pt x="0" y="240"/>
                </a:moveTo>
                <a:cubicBezTo>
                  <a:pt x="684" y="520"/>
                  <a:pt x="1368" y="801"/>
                  <a:pt x="1947" y="761"/>
                </a:cubicBezTo>
                <a:cubicBezTo>
                  <a:pt x="2526" y="721"/>
                  <a:pt x="3001" y="360"/>
                  <a:pt x="3477" y="0"/>
                </a:cubicBezTo>
              </a:path>
            </a:pathLst>
          </a:custGeom>
          <a:noFill/>
          <a:ln w="5724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1973520" y="5386320"/>
            <a:ext cx="559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ng-run ATC curve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elopes” the short run A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B1DCE2D-6B1C-4EC0-BC80-12E27424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7760" y="1440000"/>
            <a:ext cx="81662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and im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xed and variabl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, average, and marginal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m’s size in the long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C11445F-6099-4599-9850-4DF2B0A2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Run Productio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ca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 Returns to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8AFC3D2-3E9B-434F-8303-07E9FF32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3"/>
          <p:cNvSpPr/>
          <p:nvPr/>
        </p:nvSpPr>
        <p:spPr>
          <a:xfrm>
            <a:off x="1901160" y="5386320"/>
            <a:ext cx="66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un ATC curve wher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scale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8"/>
          <p:cNvSpPr/>
          <p:nvPr/>
        </p:nvSpPr>
        <p:spPr>
          <a:xfrm>
            <a:off x="2362320" y="1589040"/>
            <a:ext cx="1523880" cy="301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9"/>
          <p:cNvSpPr/>
          <p:nvPr/>
        </p:nvSpPr>
        <p:spPr>
          <a:xfrm>
            <a:off x="6981840" y="1585800"/>
            <a:ext cx="152388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0"/>
          <p:cNvSpPr/>
          <p:nvPr/>
        </p:nvSpPr>
        <p:spPr>
          <a:xfrm>
            <a:off x="3892680" y="1585800"/>
            <a:ext cx="3101760" cy="301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27"/>
          <p:cNvGrpSpPr/>
          <p:nvPr/>
        </p:nvGrpSpPr>
        <p:grpSpPr>
          <a:xfrm>
            <a:off x="2638440" y="2211120"/>
            <a:ext cx="5434920" cy="1328760"/>
            <a:chOff x="2638440" y="2211120"/>
            <a:chExt cx="5434920" cy="1328760"/>
          </a:xfrm>
        </p:grpSpPr>
        <p:sp>
          <p:nvSpPr>
            <p:cNvPr id="541" name="Arc 24"/>
            <p:cNvSpPr/>
            <p:nvPr/>
          </p:nvSpPr>
          <p:spPr>
            <a:xfrm rot="10800000">
              <a:off x="2638440" y="2211120"/>
              <a:ext cx="1303200" cy="1328760"/>
            </a:xfrm>
            <a:custGeom>
              <a:avLst/>
              <a:gdLst>
                <a:gd name="textAreaLeft" fmla="*/ 0 w 1303200"/>
                <a:gd name="textAreaRight" fmla="*/ 1303560 w 13032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fill="none" w="21186" h="21600">
                  <a:moveTo>
                    <a:pt x="-1" y="0"/>
                  </a:moveTo>
                  <a:cubicBezTo>
                    <a:pt x="10305" y="0"/>
                    <a:pt x="19176" y="7280"/>
                    <a:pt x="21185" y="17389"/>
                  </a:cubicBezTo>
                </a:path>
                <a:path stroke="0" w="21186" h="21600">
                  <a:moveTo>
                    <a:pt x="-1" y="0"/>
                  </a:moveTo>
                  <a:cubicBezTo>
                    <a:pt x="10305" y="0"/>
                    <a:pt x="19176" y="7280"/>
                    <a:pt x="21185" y="1738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25"/>
            <p:cNvSpPr/>
            <p:nvPr/>
          </p:nvSpPr>
          <p:spPr>
            <a:xfrm flipH="1" rot="10800000">
              <a:off x="6766560" y="2211120"/>
              <a:ext cx="1306440" cy="1328760"/>
            </a:xfrm>
            <a:custGeom>
              <a:avLst/>
              <a:gdLst>
                <a:gd name="textAreaLeft" fmla="*/ -360 w 1306440"/>
                <a:gd name="textAreaRight" fmla="*/ 1306440 w 13064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fill="none" w="21228" h="21600">
                  <a:moveTo>
                    <a:pt x="-1" y="0"/>
                  </a:moveTo>
                  <a:cubicBezTo>
                    <a:pt x="10391" y="0"/>
                    <a:pt x="19309" y="7398"/>
                    <a:pt x="21228" y="17610"/>
                  </a:cubicBezTo>
                </a:path>
                <a:path stroke="0" w="21228" h="21600">
                  <a:moveTo>
                    <a:pt x="-1" y="0"/>
                  </a:moveTo>
                  <a:cubicBezTo>
                    <a:pt x="10391" y="0"/>
                    <a:pt x="19309" y="7398"/>
                    <a:pt x="21228" y="1761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6"/>
            <p:cNvSpPr/>
            <p:nvPr/>
          </p:nvSpPr>
          <p:spPr>
            <a:xfrm>
              <a:off x="3940200" y="3538440"/>
              <a:ext cx="286380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4"/>
          <p:cNvSpPr/>
          <p:nvPr/>
        </p:nvSpPr>
        <p:spPr>
          <a:xfrm>
            <a:off x="7132320" y="344484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1"/>
          <p:cNvSpPr/>
          <p:nvPr/>
        </p:nvSpPr>
        <p:spPr>
          <a:xfrm>
            <a:off x="245700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5"/>
          <p:cNvSpPr/>
          <p:nvPr/>
        </p:nvSpPr>
        <p:spPr>
          <a:xfrm>
            <a:off x="4547880" y="1581120"/>
            <a:ext cx="187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 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6981840" y="157788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7"/>
          <p:cNvSpPr/>
          <p:nvPr/>
        </p:nvSpPr>
        <p:spPr>
          <a:xfrm>
            <a:off x="3693240" y="46944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8"/>
          <p:cNvSpPr/>
          <p:nvPr/>
        </p:nvSpPr>
        <p:spPr>
          <a:xfrm>
            <a:off x="6790320" y="47023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B1F8AD43-FCE2-4803-83DF-0166D336C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0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980720" y="5310360"/>
            <a:ext cx="640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un ATC curve where cos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only when large number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2362320" y="1589040"/>
            <a:ext cx="4767120" cy="3005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413496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8"/>
          <p:cNvSpPr/>
          <p:nvPr/>
        </p:nvSpPr>
        <p:spPr>
          <a:xfrm>
            <a:off x="7126200" y="1585800"/>
            <a:ext cx="136044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0"/>
          <p:cNvSpPr/>
          <p:nvPr/>
        </p:nvSpPr>
        <p:spPr>
          <a:xfrm>
            <a:off x="7098480" y="1604880"/>
            <a:ext cx="138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4"/>
          <p:cNvSpPr/>
          <p:nvPr/>
        </p:nvSpPr>
        <p:spPr>
          <a:xfrm>
            <a:off x="2548080" y="1893960"/>
            <a:ext cx="5640120" cy="2006640"/>
          </a:xfrm>
          <a:custGeom>
            <a:avLst/>
            <a:gdLst>
              <a:gd name="textAreaLeft" fmla="*/ 0 w 5640120"/>
              <a:gd name="textAreaRight" fmla="*/ 5640480 w 564012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4005" h="1374">
                <a:moveTo>
                  <a:pt x="0" y="0"/>
                </a:moveTo>
                <a:cubicBezTo>
                  <a:pt x="1007" y="506"/>
                  <a:pt x="2014" y="1012"/>
                  <a:pt x="2681" y="1193"/>
                </a:cubicBezTo>
                <a:cubicBezTo>
                  <a:pt x="3348" y="1374"/>
                  <a:pt x="3676" y="1229"/>
                  <a:pt x="4005" y="1084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7132320" y="390060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825480" y="0"/>
            <a:ext cx="83185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74A560B-76BD-483F-B616-C6D2F044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3"/>
          <p:cNvSpPr/>
          <p:nvPr/>
        </p:nvSpPr>
        <p:spPr>
          <a:xfrm>
            <a:off x="2252520" y="1477800"/>
            <a:ext cx="6369120" cy="3267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5020200" y="5041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910520" y="5310360"/>
            <a:ext cx="6694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un ATC curve where econo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scale exist, are exhausted quick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urn back up substa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 rot="16200000">
            <a:off x="802440" y="291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ota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937120" y="2235240"/>
            <a:ext cx="138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-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362320" y="1589040"/>
            <a:ext cx="1631880" cy="3011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2523960" y="1584360"/>
            <a:ext cx="12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3992400" y="1585800"/>
            <a:ext cx="1981440" cy="30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2557440" y="1916280"/>
            <a:ext cx="3321000" cy="2339640"/>
          </a:xfrm>
          <a:custGeom>
            <a:avLst/>
            <a:gdLst>
              <a:gd name="textAreaLeft" fmla="*/ 0 w 3321000"/>
              <a:gd name="textAreaRight" fmla="*/ 3321360 w 3321000"/>
              <a:gd name="textAreaTop" fmla="*/ 0 h 2339640"/>
              <a:gd name="textAreaBottom" fmla="*/ 2339640 h 2339640"/>
            </a:gdLst>
            <a:ahLst/>
            <a:rect l="textAreaLeft" t="textAreaTop" r="textAreaRight" b="textAreaBottom"/>
            <a:pathLst>
              <a:path w="1207" h="1474">
                <a:moveTo>
                  <a:pt x="0" y="41"/>
                </a:moveTo>
                <a:cubicBezTo>
                  <a:pt x="167" y="757"/>
                  <a:pt x="334" y="1474"/>
                  <a:pt x="535" y="1467"/>
                </a:cubicBezTo>
                <a:cubicBezTo>
                  <a:pt x="736" y="1460"/>
                  <a:pt x="971" y="730"/>
                  <a:pt x="1207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4214880" y="157788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econom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825480" y="0"/>
            <a:ext cx="8318520" cy="11048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-Run ATC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783EF52-523A-43FD-A4F6-10A86AA9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0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98748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927000" y="1104480"/>
            <a:ext cx="7912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um efficient scale (M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and illust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of 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start-up fi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erson stamping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aily 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craft and concrete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64A4E8F6-7450-4F09-8027-82A8A9F2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0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6" dur="1" fill="hold"/>
                                  <p:tgtEl>
                                    <p:spTgt spid="57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51040" y="-360"/>
            <a:ext cx="8292960" cy="12063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k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69720" y="1412640"/>
            <a:ext cx="7086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relevant in decision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not be recov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t affect marginal benefit and marginal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18BEB065-7975-4C6A-8921-42A95C86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0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1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10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4" dur="1" fill="hold"/>
                                  <p:tgtEl>
                                    <p:spTgt spid="5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7720" y="1371240"/>
            <a:ext cx="40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(opportunity)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roduct (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product (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roduct (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813200" y="1397160"/>
            <a:ext cx="43308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fixed cost (A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variable cost (A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total cost (A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al cost (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returns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efficient scale (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monop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37C11E4-454D-4360-9A5E-2832E403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0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2857680" y="2843280"/>
            <a:ext cx="3733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A89F3558-2AE7-441C-B39D-03F2E739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39960" y="1213920"/>
            <a:ext cx="748008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 to opportunity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+ im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tary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 of next bes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own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employ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C8E190C4-4CF4-48C7-9C46-3D921470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9600" y="1569960"/>
            <a:ext cx="79246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ing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revenue less explicit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qual to implicit co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or pure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tal revenue less economic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320DF35E-C12D-4928-81BD-0EC81349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s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300480" y="2717640"/>
            <a:ext cx="1638360" cy="601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985000" y="3889440"/>
            <a:ext cx="1638000" cy="1171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s (Expl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983200" y="2711520"/>
            <a:ext cx="1638360" cy="11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300480" y="3889440"/>
            <a:ext cx="1638360" cy="1171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300480" y="3321000"/>
            <a:ext cx="1638360" cy="569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it 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cluding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 rot="16200000">
            <a:off x="1720800" y="3846960"/>
            <a:ext cx="16437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port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 rot="16200000">
            <a:off x="4592520" y="3715920"/>
            <a:ext cx="1742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/>
          <p:cNvSpPr/>
          <p:nvPr/>
        </p:nvSpPr>
        <p:spPr>
          <a:xfrm>
            <a:off x="4952880" y="2703600"/>
            <a:ext cx="311400" cy="2352600"/>
          </a:xfrm>
          <a:custGeom>
            <a:avLst/>
            <a:gdLst>
              <a:gd name="textAreaLeft" fmla="*/ 0 w 311400"/>
              <a:gd name="textAreaRight" fmla="*/ 112320 w 31140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 flipH="1">
            <a:off x="5661000" y="2705040"/>
            <a:ext cx="311040" cy="2352600"/>
          </a:xfrm>
          <a:custGeom>
            <a:avLst/>
            <a:gdLst>
              <a:gd name="textAreaLeft" fmla="*/ 0 w 311040"/>
              <a:gd name="textAreaRight" fmla="*/ 112320 w 31104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 flipH="1">
            <a:off x="2945520" y="3330720"/>
            <a:ext cx="311400" cy="1734840"/>
          </a:xfrm>
          <a:custGeom>
            <a:avLst/>
            <a:gdLst>
              <a:gd name="textAreaLeft" fmla="*/ -360 w 311400"/>
              <a:gd name="textAreaRight" fmla="*/ 111960 w 311400"/>
              <a:gd name="textAreaTop" fmla="*/ 45000 h 1734840"/>
              <a:gd name="textAreaBottom" fmla="*/ 1689840 h 17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9"/>
          <p:cNvGrpSpPr/>
          <p:nvPr/>
        </p:nvGrpSpPr>
        <p:grpSpPr>
          <a:xfrm>
            <a:off x="3202200" y="2259000"/>
            <a:ext cx="4519080" cy="461160"/>
            <a:chOff x="3202200" y="2259000"/>
            <a:chExt cx="4519080" cy="461160"/>
          </a:xfrm>
        </p:grpSpPr>
        <p:sp>
          <p:nvSpPr>
            <p:cNvPr id="146" name="Text Box 17"/>
            <p:cNvSpPr/>
            <p:nvPr/>
          </p:nvSpPr>
          <p:spPr>
            <a:xfrm>
              <a:off x="3202200" y="225900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5865840" y="2260440"/>
              <a:ext cx="18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coun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20"/>
          <p:cNvSpPr/>
          <p:nvPr/>
        </p:nvSpPr>
        <p:spPr>
          <a:xfrm>
            <a:off x="3294000" y="2717640"/>
            <a:ext cx="1638360" cy="2341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991120" y="2717640"/>
            <a:ext cx="1638360" cy="234180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28ED0B51-12D1-441A-835C-DB090F8B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and Long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hort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 plant capa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intensity of plan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ng r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plant capa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s enter and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841BC41A-9FD0-4859-B8E6-26562F992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0368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69720" y="1341360"/>
            <a:ext cx="62737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product (T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product (M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erage product (A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1739880" y="4667400"/>
            <a:ext cx="6076800" cy="900720"/>
            <a:chOff x="1739880" y="4667400"/>
            <a:chExt cx="6076800" cy="900720"/>
          </a:xfrm>
        </p:grpSpPr>
        <p:sp>
          <p:nvSpPr>
            <p:cNvPr id="157" name="Text Box 5"/>
            <p:cNvSpPr/>
            <p:nvPr/>
          </p:nvSpPr>
          <p:spPr>
            <a:xfrm>
              <a:off x="1739880" y="479736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verage Pro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1"/>
            <p:cNvGrpSpPr/>
            <p:nvPr/>
          </p:nvGrpSpPr>
          <p:grpSpPr>
            <a:xfrm>
              <a:off x="5419800" y="4667400"/>
              <a:ext cx="2396880" cy="900720"/>
              <a:chOff x="5419800" y="4667400"/>
              <a:chExt cx="2396880" cy="900720"/>
            </a:xfrm>
          </p:grpSpPr>
          <p:sp>
            <p:nvSpPr>
              <p:cNvPr id="159" name="Text Box 8"/>
              <p:cNvSpPr/>
              <p:nvPr/>
            </p:nvSpPr>
            <p:spPr>
              <a:xfrm>
                <a:off x="5545440" y="4667400"/>
                <a:ext cx="214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 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9"/>
              <p:cNvSpPr/>
              <p:nvPr/>
            </p:nvSpPr>
            <p:spPr>
              <a:xfrm>
                <a:off x="5494680" y="510840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nits of Lab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0"/>
              <p:cNvSpPr/>
              <p:nvPr/>
            </p:nvSpPr>
            <p:spPr>
              <a:xfrm>
                <a:off x="5419800" y="5108400"/>
                <a:ext cx="239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14"/>
            <p:cNvSpPr/>
            <p:nvPr/>
          </p:nvSpPr>
          <p:spPr>
            <a:xfrm>
              <a:off x="4859280" y="47862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7"/>
          <p:cNvGrpSpPr/>
          <p:nvPr/>
        </p:nvGrpSpPr>
        <p:grpSpPr>
          <a:xfrm>
            <a:off x="1742400" y="2757600"/>
            <a:ext cx="7016040" cy="901080"/>
            <a:chOff x="1742400" y="2757600"/>
            <a:chExt cx="7016040" cy="901080"/>
          </a:xfrm>
        </p:grpSpPr>
        <p:sp>
          <p:nvSpPr>
            <p:cNvPr id="164" name="Text Box 4"/>
            <p:cNvSpPr/>
            <p:nvPr/>
          </p:nvSpPr>
          <p:spPr>
            <a:xfrm>
              <a:off x="1742400" y="2909880"/>
              <a:ext cx="30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13"/>
            <p:cNvGrpSpPr/>
            <p:nvPr/>
          </p:nvGrpSpPr>
          <p:grpSpPr>
            <a:xfrm>
              <a:off x="5055840" y="2757600"/>
              <a:ext cx="3702600" cy="901080"/>
              <a:chOff x="5055840" y="2757600"/>
              <a:chExt cx="3702600" cy="901080"/>
            </a:xfrm>
          </p:grpSpPr>
          <p:sp>
            <p:nvSpPr>
              <p:cNvPr id="166" name="Text Box 6"/>
              <p:cNvSpPr/>
              <p:nvPr/>
            </p:nvSpPr>
            <p:spPr>
              <a:xfrm>
                <a:off x="5055840" y="2757600"/>
                <a:ext cx="370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nge in Total 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"/>
              <p:cNvSpPr/>
              <p:nvPr/>
            </p:nvSpPr>
            <p:spPr>
              <a:xfrm>
                <a:off x="5199840" y="3198960"/>
                <a:ext cx="34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ange in Labor Inpu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2"/>
              <p:cNvSpPr/>
              <p:nvPr/>
            </p:nvSpPr>
            <p:spPr>
              <a:xfrm>
                <a:off x="5111640" y="3213000"/>
                <a:ext cx="359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15"/>
            <p:cNvSpPr/>
            <p:nvPr/>
          </p:nvSpPr>
          <p:spPr>
            <a:xfrm>
              <a:off x="4710240" y="28987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8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F9F021FC-6A43-47B0-9C82-B6132741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xed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variable resource to fixed re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ginal product will dec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yond some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DA7449DD-B342-4038-A101-731F0780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9"/>
          <p:cNvSpPr/>
          <p:nvPr/>
        </p:nvSpPr>
        <p:spPr>
          <a:xfrm>
            <a:off x="6180120" y="3367080"/>
            <a:ext cx="1217520" cy="642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0"/>
          <p:cNvSpPr/>
          <p:nvPr/>
        </p:nvSpPr>
        <p:spPr>
          <a:xfrm>
            <a:off x="6181560" y="3338640"/>
            <a:ext cx="11941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0"/>
          <p:cNvSpPr/>
          <p:nvPr/>
        </p:nvSpPr>
        <p:spPr>
          <a:xfrm>
            <a:off x="6156360" y="4330800"/>
            <a:ext cx="1241280" cy="642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1"/>
          <p:cNvSpPr/>
          <p:nvPr/>
        </p:nvSpPr>
        <p:spPr>
          <a:xfrm>
            <a:off x="6156360" y="5138640"/>
            <a:ext cx="124128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8"/>
          <p:cNvGrpSpPr/>
          <p:nvPr/>
        </p:nvGrpSpPr>
        <p:grpSpPr>
          <a:xfrm>
            <a:off x="1398600" y="1862280"/>
            <a:ext cx="7130880" cy="3930480"/>
            <a:chOff x="1398600" y="1862280"/>
            <a:chExt cx="7130880" cy="3930480"/>
          </a:xfrm>
        </p:grpSpPr>
        <p:grpSp>
          <p:nvGrpSpPr>
            <p:cNvPr id="179" name="Group 66"/>
            <p:cNvGrpSpPr/>
            <p:nvPr/>
          </p:nvGrpSpPr>
          <p:grpSpPr>
            <a:xfrm>
              <a:off x="1398600" y="1862280"/>
              <a:ext cx="7130880" cy="3930480"/>
              <a:chOff x="1398600" y="1862280"/>
              <a:chExt cx="7130880" cy="3930480"/>
            </a:xfrm>
          </p:grpSpPr>
          <p:sp>
            <p:nvSpPr>
              <p:cNvPr id="180" name="Rectangle 63"/>
              <p:cNvSpPr/>
              <p:nvPr/>
            </p:nvSpPr>
            <p:spPr>
              <a:xfrm>
                <a:off x="1398600" y="1862280"/>
                <a:ext cx="7130880" cy="1263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64"/>
              <p:cNvSpPr/>
              <p:nvPr/>
            </p:nvSpPr>
            <p:spPr>
              <a:xfrm>
                <a:off x="3598920" y="1862280"/>
                <a:ext cx="0" cy="39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65"/>
              <p:cNvSpPr/>
              <p:nvPr/>
            </p:nvSpPr>
            <p:spPr>
              <a:xfrm>
                <a:off x="7418160" y="1862280"/>
                <a:ext cx="0" cy="39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67"/>
            <p:cNvSpPr/>
            <p:nvPr/>
          </p:nvSpPr>
          <p:spPr>
            <a:xfrm>
              <a:off x="5288040" y="1865160"/>
              <a:ext cx="0" cy="125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43120" y="-360"/>
            <a:ext cx="830088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 of Diminishing Retu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2"/>
          <p:cNvGrpSpPr/>
          <p:nvPr/>
        </p:nvGrpSpPr>
        <p:grpSpPr>
          <a:xfrm>
            <a:off x="1392120" y="1852560"/>
            <a:ext cx="7120080" cy="1259640"/>
            <a:chOff x="1392120" y="1852560"/>
            <a:chExt cx="7120080" cy="1259640"/>
          </a:xfrm>
        </p:grpSpPr>
        <p:sp>
          <p:nvSpPr>
            <p:cNvPr id="186" name="Text Box 4"/>
            <p:cNvSpPr/>
            <p:nvPr/>
          </p:nvSpPr>
          <p:spPr>
            <a:xfrm>
              <a:off x="1392120" y="2085840"/>
              <a:ext cx="224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ts of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riable Re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abo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3605760" y="2319480"/>
              <a:ext cx="16560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5306040" y="1852560"/>
              <a:ext cx="204912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gin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P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in (2)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nge in 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7432200" y="1852560"/>
              <a:ext cx="108000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P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)/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8"/>
          <p:cNvSpPr/>
          <p:nvPr/>
        </p:nvSpPr>
        <p:spPr>
          <a:xfrm>
            <a:off x="2287800" y="3084480"/>
            <a:ext cx="3070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240800" y="3081240"/>
            <a:ext cx="4338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615640" y="3222720"/>
            <a:ext cx="433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7586640" y="3078000"/>
            <a:ext cx="7524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4579920" y="3156120"/>
            <a:ext cx="936720" cy="2563920"/>
            <a:chOff x="4579920" y="3156120"/>
            <a:chExt cx="936720" cy="2563920"/>
          </a:xfrm>
        </p:grpSpPr>
        <p:grpSp>
          <p:nvGrpSpPr>
            <p:cNvPr id="195" name="Group 35"/>
            <p:cNvGrpSpPr/>
            <p:nvPr/>
          </p:nvGrpSpPr>
          <p:grpSpPr>
            <a:xfrm>
              <a:off x="4579920" y="3156120"/>
              <a:ext cx="936720" cy="474840"/>
              <a:chOff x="4579920" y="3156120"/>
              <a:chExt cx="936720" cy="474840"/>
            </a:xfrm>
          </p:grpSpPr>
          <p:sp>
            <p:nvSpPr>
              <p:cNvPr id="196" name="Text Box 15"/>
              <p:cNvSpPr/>
              <p:nvPr/>
            </p:nvSpPr>
            <p:spPr>
              <a:xfrm>
                <a:off x="4579920" y="31561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4730760" y="34354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6"/>
            <p:cNvGrpSpPr/>
            <p:nvPr/>
          </p:nvGrpSpPr>
          <p:grpSpPr>
            <a:xfrm>
              <a:off x="4579920" y="3463920"/>
              <a:ext cx="936720" cy="474840"/>
              <a:chOff x="4579920" y="3463920"/>
              <a:chExt cx="936720" cy="474840"/>
            </a:xfrm>
          </p:grpSpPr>
          <p:sp>
            <p:nvSpPr>
              <p:cNvPr id="199" name="Text Box 37"/>
              <p:cNvSpPr/>
              <p:nvPr/>
            </p:nvSpPr>
            <p:spPr>
              <a:xfrm>
                <a:off x="4579920" y="34639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8"/>
              <p:cNvSpPr/>
              <p:nvPr/>
            </p:nvSpPr>
            <p:spPr>
              <a:xfrm>
                <a:off x="4730760" y="3743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39"/>
            <p:cNvGrpSpPr/>
            <p:nvPr/>
          </p:nvGrpSpPr>
          <p:grpSpPr>
            <a:xfrm>
              <a:off x="4579920" y="3760920"/>
              <a:ext cx="936720" cy="474840"/>
              <a:chOff x="4579920" y="3760920"/>
              <a:chExt cx="936720" cy="474840"/>
            </a:xfrm>
          </p:grpSpPr>
          <p:sp>
            <p:nvSpPr>
              <p:cNvPr id="202" name="Text Box 40"/>
              <p:cNvSpPr/>
              <p:nvPr/>
            </p:nvSpPr>
            <p:spPr>
              <a:xfrm>
                <a:off x="4579920" y="376092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1"/>
              <p:cNvSpPr/>
              <p:nvPr/>
            </p:nvSpPr>
            <p:spPr>
              <a:xfrm>
                <a:off x="4730760" y="404028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2"/>
            <p:cNvGrpSpPr/>
            <p:nvPr/>
          </p:nvGrpSpPr>
          <p:grpSpPr>
            <a:xfrm>
              <a:off x="4579920" y="4057560"/>
              <a:ext cx="936720" cy="474840"/>
              <a:chOff x="4579920" y="4057560"/>
              <a:chExt cx="936720" cy="474840"/>
            </a:xfrm>
          </p:grpSpPr>
          <p:sp>
            <p:nvSpPr>
              <p:cNvPr id="205" name="Text Box 43"/>
              <p:cNvSpPr/>
              <p:nvPr/>
            </p:nvSpPr>
            <p:spPr>
              <a:xfrm>
                <a:off x="4579920" y="40575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44"/>
              <p:cNvSpPr/>
              <p:nvPr/>
            </p:nvSpPr>
            <p:spPr>
              <a:xfrm>
                <a:off x="4730760" y="43369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5"/>
            <p:cNvGrpSpPr/>
            <p:nvPr/>
          </p:nvGrpSpPr>
          <p:grpSpPr>
            <a:xfrm>
              <a:off x="4579920" y="4354560"/>
              <a:ext cx="936720" cy="474840"/>
              <a:chOff x="4579920" y="4354560"/>
              <a:chExt cx="936720" cy="474840"/>
            </a:xfrm>
          </p:grpSpPr>
          <p:sp>
            <p:nvSpPr>
              <p:cNvPr id="208" name="Text Box 46"/>
              <p:cNvSpPr/>
              <p:nvPr/>
            </p:nvSpPr>
            <p:spPr>
              <a:xfrm>
                <a:off x="4579920" y="43545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47"/>
              <p:cNvSpPr/>
              <p:nvPr/>
            </p:nvSpPr>
            <p:spPr>
              <a:xfrm>
                <a:off x="4730760" y="46339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8"/>
            <p:cNvGrpSpPr/>
            <p:nvPr/>
          </p:nvGrpSpPr>
          <p:grpSpPr>
            <a:xfrm>
              <a:off x="4579920" y="4651560"/>
              <a:ext cx="936720" cy="474840"/>
              <a:chOff x="4579920" y="4651560"/>
              <a:chExt cx="936720" cy="474840"/>
            </a:xfrm>
          </p:grpSpPr>
          <p:sp>
            <p:nvSpPr>
              <p:cNvPr id="211" name="Text Box 49"/>
              <p:cNvSpPr/>
              <p:nvPr/>
            </p:nvSpPr>
            <p:spPr>
              <a:xfrm>
                <a:off x="4579920" y="465156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0"/>
              <p:cNvSpPr/>
              <p:nvPr/>
            </p:nvSpPr>
            <p:spPr>
              <a:xfrm>
                <a:off x="4730760" y="493092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51"/>
            <p:cNvGrpSpPr/>
            <p:nvPr/>
          </p:nvGrpSpPr>
          <p:grpSpPr>
            <a:xfrm>
              <a:off x="4579920" y="4948200"/>
              <a:ext cx="936720" cy="474840"/>
              <a:chOff x="4579920" y="4948200"/>
              <a:chExt cx="936720" cy="474840"/>
            </a:xfrm>
          </p:grpSpPr>
          <p:sp>
            <p:nvSpPr>
              <p:cNvPr id="214" name="Text Box 52"/>
              <p:cNvSpPr/>
              <p:nvPr/>
            </p:nvSpPr>
            <p:spPr>
              <a:xfrm>
                <a:off x="4579920" y="494820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3"/>
              <p:cNvSpPr/>
              <p:nvPr/>
            </p:nvSpPr>
            <p:spPr>
              <a:xfrm>
                <a:off x="4730760" y="52275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54"/>
            <p:cNvGrpSpPr/>
            <p:nvPr/>
          </p:nvGrpSpPr>
          <p:grpSpPr>
            <a:xfrm>
              <a:off x="4579920" y="5245200"/>
              <a:ext cx="936720" cy="474840"/>
              <a:chOff x="4579920" y="5245200"/>
              <a:chExt cx="936720" cy="474840"/>
            </a:xfrm>
          </p:grpSpPr>
          <p:sp>
            <p:nvSpPr>
              <p:cNvPr id="217" name="Text Box 55"/>
              <p:cNvSpPr/>
              <p:nvPr/>
            </p:nvSpPr>
            <p:spPr>
              <a:xfrm>
                <a:off x="4579920" y="5245200"/>
                <a:ext cx="296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6"/>
              <p:cNvSpPr/>
              <p:nvPr/>
            </p:nvSpPr>
            <p:spPr>
              <a:xfrm>
                <a:off x="4730760" y="55245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61"/>
          <p:cNvSpPr/>
          <p:nvPr/>
        </p:nvSpPr>
        <p:spPr>
          <a:xfrm>
            <a:off x="6108120" y="4324320"/>
            <a:ext cx="13388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mini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6265080" y="5110200"/>
            <a:ext cx="102492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7"/>
          <p:cNvSpPr/>
          <p:nvPr/>
        </p:nvSpPr>
        <p:spPr>
          <a:xfrm>
            <a:off x="5999040" y="3341520"/>
            <a:ext cx="166680" cy="692280"/>
          </a:xfrm>
          <a:custGeom>
            <a:avLst/>
            <a:gdLst>
              <a:gd name="textAreaLeft" fmla="*/ 0 w 166680"/>
              <a:gd name="textAreaRight" fmla="*/ 60120 w 166680"/>
              <a:gd name="textAreaTop" fmla="*/ 18000 h 692280"/>
              <a:gd name="textAreaBottom" fmla="*/ 67428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8"/>
          <p:cNvSpPr/>
          <p:nvPr/>
        </p:nvSpPr>
        <p:spPr>
          <a:xfrm>
            <a:off x="5999040" y="4065480"/>
            <a:ext cx="166680" cy="1187640"/>
          </a:xfrm>
          <a:custGeom>
            <a:avLst/>
            <a:gdLst>
              <a:gd name="textAreaLeft" fmla="*/ 0 w 166680"/>
              <a:gd name="textAreaRight" fmla="*/ 60120 w 166680"/>
              <a:gd name="textAreaTop" fmla="*/ 30960 h 1187640"/>
              <a:gd name="textAreaBottom" fmla="*/ 1156680 h 11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9"/>
          <p:cNvSpPr/>
          <p:nvPr/>
        </p:nvSpPr>
        <p:spPr>
          <a:xfrm>
            <a:off x="5999040" y="5284800"/>
            <a:ext cx="166680" cy="355680"/>
          </a:xfrm>
          <a:custGeom>
            <a:avLst/>
            <a:gdLst>
              <a:gd name="textAreaLeft" fmla="*/ 0 w 166680"/>
              <a:gd name="textAreaRight" fmla="*/ 60120 w 166680"/>
              <a:gd name="textAreaTop" fmla="*/ 9000 h 355680"/>
              <a:gd name="textAreaBottom" fmla="*/ 346680 h 3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</a:t>
            </a:r>
            <a:fld id="{9414BD4E-C453-452A-AB62-25164B9D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7:53:02Z</dcterms:created>
  <dc:creator>C. Norman Hollingsworth</dc:creator>
  <dc:description/>
  <dc:language>en-US</dc:language>
  <cp:lastModifiedBy>Administrator</cp:lastModifiedBy>
  <dcterms:modified xsi:type="dcterms:W3CDTF">2015-11-13T15:47:16Z</dcterms:modified>
  <cp:revision>209</cp:revision>
  <dc:subject>McConnell-Brue Economics</dc:subject>
  <dc:title>Chapter 20</dc:title>
</cp:coreProperties>
</file>